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3.wmf" ContentType="image/x-wmf"/>
  <Override PartName="/ppt/media/image28.png" ContentType="image/png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9E7F-9795-412D-ABA9-845E377AA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C71-AAC1-46C8-83C2-0CFF6BD7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7C0A-4597-41C1-9A8B-DFDE53BE642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9011-1A3D-4279-9BCD-61088A107E7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BB05E-1A89-42B1-AF10-3EE4516DC2D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6D41-1B40-4C72-9A6C-CD26BEC08B7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8F10-CC1E-4F96-9A2F-98BC37B6AFD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8B62-DD79-494E-ABEE-F1CD007F68B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6F64-A72D-45C5-8304-5F609B9328A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E45C-5FC8-42AC-90A5-8743F962D2C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4E88-8773-46BD-8B79-D51D3CA04EE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82E4B3-2222-4CC3-91AC-A3C09C66D5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D7D-85C0-40D9-8AE5-D23AB1CD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60FF26-2ADE-40B3-90E5-00DB7EAA2D3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FE5AB-981A-4027-9995-91996E06B15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8AC23E-7CCD-4398-9FA9-479A48C24A5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012D5E-826B-4A2A-8C81-F70081058B6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19194B-1805-4E1D-958A-B6691B669A8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B33217-FCBC-47BC-BF14-A1C35888505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644120-30D9-450A-A5FE-AE2E0D1CBD2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038E3E-632A-41FF-98AD-D7DFB7DDF11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0DCCB8-1217-4CC5-9923-E71F610FADB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AA2982-E1B4-4689-8A44-B4169DE62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1647-D8BD-420F-82E8-BD47C754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AFA9BA-057A-4411-AC0A-5D21F8BEF77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A6E9-E0E1-4905-A69D-10BBFD4E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D21A-9196-48FA-9950-7A61FEC6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2C68-B590-486D-8BF9-7129D015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D61-B8E0-4E00-9187-C337263C3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09C-A9CF-48D4-BBBF-1D7F3AB5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407B-0142-47FE-BC8B-AE2D0BF7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B542A-314E-43B3-A417-05FF8B4D29B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A1EA7-4E36-41ED-A22F-696AB4739BB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75F3D-8CA8-4270-B424-4A7C793BA91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C49AD-9705-4E62-B0D7-AD445B8DDCE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0B950C-CE54-485C-9811-C742C2C7242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54339-559C-4960-960D-9D505CAADD7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922D5-8FC3-4CFC-B016-DCF9FA5641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99B-E180-4878-9103-4260715A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7310E-6774-4E62-B61B-AA27C551B43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F54D6-0E3A-410E-BB5C-B76F22C73AE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33C06-6883-40A3-B534-2A746708DFD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E9437-DF23-457E-B343-9348D128259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84E572-EAA8-4C90-8162-CCEBDE2EF1A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754ED-EB6E-460E-868C-6B68DB11D3C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FEDAD-5E74-47C9-B8AB-5F194C78D46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CC4DA-D954-4F29-A7F5-797448D6685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DAAB2-1807-4678-9AE7-315FEE1CB98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88F9C7-B2E9-4B1F-93B9-6FEAED437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52C0-163C-4D1E-941E-3E2828BD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546B8-1102-4DC1-88FE-7BF93C9514D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65131-8DAC-4535-B380-7053E967698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EE88F-F0A1-47DB-BE31-195D957578A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6FD0DE-AB4B-4A94-AD94-071CFB9373C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CB4DE-1F9A-4799-A70A-563AE099E3E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CD834-354D-43CD-8A5A-6D9CBAFC241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24832-703D-4DCE-A9E3-326C85E5F09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5C19-58DE-44C7-B686-350203B29BA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04F5-A105-4E6B-B8B4-745E946899E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DAE7-FBA1-4AE7-93E8-BFC98B1A54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wmf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22.wmf"/><Relationship Id="rId15" Type="http://schemas.openxmlformats.org/officeDocument/2006/relationships/image" Target="../media/image23.wmf"/><Relationship Id="rId16" Type="http://schemas.openxmlformats.org/officeDocument/2006/relationships/image" Target="../media/image24.wmf"/><Relationship Id="rId17" Type="http://schemas.openxmlformats.org/officeDocument/2006/relationships/image" Target="../media/image25.wmf"/><Relationship Id="rId18" Type="http://schemas.openxmlformats.org/officeDocument/2006/relationships/image" Target="../media/image26.wmf"/><Relationship Id="rId19" Type="http://schemas.openxmlformats.org/officeDocument/2006/relationships/image" Target="../media/image7.png"/><Relationship Id="rId20" Type="http://schemas.openxmlformats.org/officeDocument/2006/relationships/slideLayout" Target="../slideLayouts/slideLayout109.xml"/><Relationship Id="rId21" Type="http://schemas.openxmlformats.org/officeDocument/2006/relationships/slideLayout" Target="../slideLayouts/slideLayout110.xml"/><Relationship Id="rId22" Type="http://schemas.openxmlformats.org/officeDocument/2006/relationships/slideLayout" Target="../slideLayouts/slideLayout111.xml"/><Relationship Id="rId23" Type="http://schemas.openxmlformats.org/officeDocument/2006/relationships/slideLayout" Target="../slideLayouts/slideLayout112.xml"/><Relationship Id="rId24" Type="http://schemas.openxmlformats.org/officeDocument/2006/relationships/slideLayout" Target="../slideLayouts/slideLayout113.xml"/><Relationship Id="rId25" Type="http://schemas.openxmlformats.org/officeDocument/2006/relationships/slideLayout" Target="../slideLayouts/slideLayout114.xml"/><Relationship Id="rId26" Type="http://schemas.openxmlformats.org/officeDocument/2006/relationships/slideLayout" Target="../slideLayouts/slideLayout115.xml"/><Relationship Id="rId27" Type="http://schemas.openxmlformats.org/officeDocument/2006/relationships/slideLayout" Target="../slideLayouts/slideLayout116.xml"/><Relationship Id="rId28" Type="http://schemas.openxmlformats.org/officeDocument/2006/relationships/slideLayout" Target="../slideLayouts/slideLayout117.xml"/><Relationship Id="rId29" Type="http://schemas.openxmlformats.org/officeDocument/2006/relationships/slideLayout" Target="../slideLayouts/slideLayout118.xml"/><Relationship Id="rId30" Type="http://schemas.openxmlformats.org/officeDocument/2006/relationships/slideLayout" Target="../slideLayouts/slideLayout119.xml"/><Relationship Id="rId3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7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01560" indent="-118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8431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lang="it-IT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ABDA443-FCC2-4979-A30D-31A98DAECB1B}" type="datetime">
              <a:rPr b="0" lang="it-IT" sz="6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0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594EF19-9ED2-4036-887F-8B0207EBF33E}" type="slidenum">
              <a:rPr b="0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633240" y="1084320"/>
            <a:ext cx="7877520" cy="385272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5" descr=""/>
          <p:cNvPicPr/>
          <p:nvPr/>
        </p:nvPicPr>
        <p:blipFill>
          <a:blip r:embed="rId3"/>
          <a:stretch/>
        </p:blipFill>
        <p:spPr>
          <a:xfrm>
            <a:off x="1509840" y="1655640"/>
            <a:ext cx="846000" cy="6699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"/>
          <p:cNvPicPr/>
          <p:nvPr/>
        </p:nvPicPr>
        <p:blipFill>
          <a:blip r:embed="rId4"/>
          <a:stretch/>
        </p:blipFill>
        <p:spPr>
          <a:xfrm>
            <a:off x="2502000" y="1643040"/>
            <a:ext cx="846000" cy="6699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11" descr=""/>
          <p:cNvPicPr/>
          <p:nvPr/>
        </p:nvPicPr>
        <p:blipFill>
          <a:blip r:embed="rId5"/>
          <a:stretch/>
        </p:blipFill>
        <p:spPr>
          <a:xfrm>
            <a:off x="1509840" y="2438280"/>
            <a:ext cx="846000" cy="6699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3" descr=""/>
          <p:cNvPicPr/>
          <p:nvPr/>
        </p:nvPicPr>
        <p:blipFill>
          <a:blip r:embed="rId6"/>
          <a:stretch/>
        </p:blipFill>
        <p:spPr>
          <a:xfrm>
            <a:off x="2502000" y="2427120"/>
            <a:ext cx="846000" cy="6699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4" descr=""/>
          <p:cNvPicPr/>
          <p:nvPr/>
        </p:nvPicPr>
        <p:blipFill>
          <a:blip r:embed="rId7"/>
          <a:stretch/>
        </p:blipFill>
        <p:spPr>
          <a:xfrm>
            <a:off x="1509840" y="3220920"/>
            <a:ext cx="846000" cy="6699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5" descr=""/>
          <p:cNvPicPr/>
          <p:nvPr/>
        </p:nvPicPr>
        <p:blipFill>
          <a:blip r:embed="rId8"/>
          <a:stretch/>
        </p:blipFill>
        <p:spPr>
          <a:xfrm>
            <a:off x="2490840" y="3209760"/>
            <a:ext cx="844560" cy="66996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6" descr=""/>
          <p:cNvPicPr/>
          <p:nvPr/>
        </p:nvPicPr>
        <p:blipFill>
          <a:blip r:embed="rId9"/>
          <a:stretch/>
        </p:blipFill>
        <p:spPr>
          <a:xfrm>
            <a:off x="1509840" y="3998880"/>
            <a:ext cx="846000" cy="66996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7" descr=""/>
          <p:cNvPicPr/>
          <p:nvPr/>
        </p:nvPicPr>
        <p:blipFill>
          <a:blip r:embed="rId10"/>
          <a:stretch/>
        </p:blipFill>
        <p:spPr>
          <a:xfrm>
            <a:off x="2490840" y="3998880"/>
            <a:ext cx="844560" cy="669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8" descr=""/>
          <p:cNvPicPr/>
          <p:nvPr/>
        </p:nvPicPr>
        <p:blipFill>
          <a:blip r:embed="rId11"/>
          <a:stretch/>
        </p:blipFill>
        <p:spPr>
          <a:xfrm>
            <a:off x="5761080" y="1666800"/>
            <a:ext cx="844560" cy="6685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9" descr=""/>
          <p:cNvPicPr/>
          <p:nvPr/>
        </p:nvPicPr>
        <p:blipFill>
          <a:blip r:embed="rId12"/>
          <a:stretch/>
        </p:blipFill>
        <p:spPr>
          <a:xfrm>
            <a:off x="6729480" y="1665360"/>
            <a:ext cx="842760" cy="6681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0" descr=""/>
          <p:cNvPicPr/>
          <p:nvPr/>
        </p:nvPicPr>
        <p:blipFill>
          <a:blip r:embed="rId13"/>
          <a:stretch/>
        </p:blipFill>
        <p:spPr>
          <a:xfrm>
            <a:off x="5764320" y="2448000"/>
            <a:ext cx="844560" cy="66816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1" descr=""/>
          <p:cNvPicPr/>
          <p:nvPr/>
        </p:nvPicPr>
        <p:blipFill>
          <a:blip r:embed="rId14"/>
          <a:stretch/>
        </p:blipFill>
        <p:spPr>
          <a:xfrm>
            <a:off x="6742080" y="2454120"/>
            <a:ext cx="844560" cy="6685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2" descr=""/>
          <p:cNvPicPr/>
          <p:nvPr/>
        </p:nvPicPr>
        <p:blipFill>
          <a:blip r:embed="rId15"/>
          <a:stretch/>
        </p:blipFill>
        <p:spPr>
          <a:xfrm>
            <a:off x="5761080" y="3225960"/>
            <a:ext cx="844560" cy="669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3" descr=""/>
          <p:cNvPicPr/>
          <p:nvPr/>
        </p:nvPicPr>
        <p:blipFill>
          <a:blip r:embed="rId16"/>
          <a:stretch/>
        </p:blipFill>
        <p:spPr>
          <a:xfrm>
            <a:off x="6742080" y="3232080"/>
            <a:ext cx="844560" cy="6685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4" descr=""/>
          <p:cNvPicPr/>
          <p:nvPr/>
        </p:nvPicPr>
        <p:blipFill>
          <a:blip r:embed="rId17"/>
          <a:stretch/>
        </p:blipFill>
        <p:spPr>
          <a:xfrm>
            <a:off x="5764320" y="4019400"/>
            <a:ext cx="844560" cy="668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25" descr=""/>
          <p:cNvPicPr/>
          <p:nvPr/>
        </p:nvPicPr>
        <p:blipFill>
          <a:blip r:embed="rId18"/>
          <a:stretch/>
        </p:blipFill>
        <p:spPr>
          <a:xfrm>
            <a:off x="6746760" y="4013280"/>
            <a:ext cx="843120" cy="668160"/>
          </a:xfrm>
          <a:prstGeom prst="rect">
            <a:avLst/>
          </a:prstGeom>
          <a:ln w="0">
            <a:noFill/>
          </a:ln>
        </p:spPr>
      </p:pic>
      <p:sp>
        <p:nvSpPr>
          <p:cNvPr id="383" name="Title 1"/>
          <p:cNvSpPr/>
          <p:nvPr/>
        </p:nvSpPr>
        <p:spPr>
          <a:xfrm>
            <a:off x="662040" y="835200"/>
            <a:ext cx="186372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 Light"/>
              </a:rPr>
              <a:t>Click to edit sty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Connettore 1 24"/>
          <p:cNvSpPr/>
          <p:nvPr/>
        </p:nvSpPr>
        <p:spPr>
          <a:xfrm>
            <a:off x="0" y="527040"/>
            <a:ext cx="7292880" cy="237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Immagine 25" descr=""/>
          <p:cNvPicPr/>
          <p:nvPr/>
        </p:nvPicPr>
        <p:blipFill>
          <a:blip r:embed="rId19"/>
          <a:stretch/>
        </p:blipFill>
        <p:spPr>
          <a:xfrm>
            <a:off x="7475400" y="334800"/>
            <a:ext cx="1359000" cy="281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01560" indent="-118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8431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7"/>
          </p:nvPr>
        </p:nvSpPr>
        <p:spPr>
          <a:xfrm>
            <a:off x="6457680" y="484452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1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B31B916-0E38-41AE-A984-60E9D398580B}" type="slidenum">
              <a:rPr b="1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0"/>
    <p:sldLayoutId id="2147483767" r:id="rId21"/>
    <p:sldLayoutId id="2147483768" r:id="rId22"/>
    <p:sldLayoutId id="2147483769" r:id="rId23"/>
    <p:sldLayoutId id="2147483770" r:id="rId24"/>
    <p:sldLayoutId id="2147483771" r:id="rId25"/>
    <p:sldLayoutId id="2147483772" r:id="rId26"/>
    <p:sldLayoutId id="2147483773" r:id="rId27"/>
    <p:sldLayoutId id="2147483774" r:id="rId28"/>
    <p:sldLayoutId id="2147483775" r:id="rId29"/>
    <p:sldLayoutId id="2147483776" r:id="rId30"/>
    <p:sldLayoutId id="2147483777" r:id="rId3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9" descr=""/>
          <p:cNvPicPr/>
          <p:nvPr/>
        </p:nvPicPr>
        <p:blipFill>
          <a:blip r:embed="rId2"/>
          <a:srcRect l="13948" t="561" r="901" b="90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426" name="Immagine 7" descr=""/>
          <p:cNvPicPr/>
          <p:nvPr/>
        </p:nvPicPr>
        <p:blipFill>
          <a:blip r:embed="rId3"/>
          <a:stretch/>
        </p:blipFill>
        <p:spPr>
          <a:xfrm>
            <a:off x="5954760" y="2124000"/>
            <a:ext cx="1784160" cy="36828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01560" indent="-118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8431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6" descr=""/>
          <p:cNvPicPr/>
          <p:nvPr/>
        </p:nvPicPr>
        <p:blipFill>
          <a:blip r:embed="rId2"/>
          <a:stretch/>
        </p:blipFill>
        <p:spPr>
          <a:xfrm>
            <a:off x="-73080" y="0"/>
            <a:ext cx="9290160" cy="5207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5472000" y="582480"/>
            <a:ext cx="3184560" cy="3603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01560" indent="-118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8431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"/>
          <p:cNvPicPr/>
          <p:nvPr/>
        </p:nvPicPr>
        <p:blipFill>
          <a:blip r:embed="rId2"/>
          <a:srcRect l="13958" t="545" r="894" b="92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3"/>
          <a:stretch/>
        </p:blipFill>
        <p:spPr>
          <a:xfrm>
            <a:off x="5472000" y="582480"/>
            <a:ext cx="3184560" cy="360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01560" indent="-118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8431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"/>
          <p:cNvPicPr/>
          <p:nvPr/>
        </p:nvPicPr>
        <p:blipFill>
          <a:blip r:embed="rId2"/>
          <a:srcRect l="13961" t="545" r="860" b="89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5472000" y="582480"/>
            <a:ext cx="3184560" cy="3603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01560" indent="-118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8431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"/>
          <p:cNvPicPr/>
          <p:nvPr/>
        </p:nvPicPr>
        <p:blipFill>
          <a:blip r:embed="rId2"/>
          <a:srcRect l="13958" t="545" r="894" b="92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3"/>
          <a:stretch/>
        </p:blipFill>
        <p:spPr>
          <a:xfrm>
            <a:off x="5472000" y="582480"/>
            <a:ext cx="3184560" cy="360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01560" indent="-118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8431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5" descr=""/>
          <p:cNvPicPr/>
          <p:nvPr/>
        </p:nvPicPr>
        <p:blipFill>
          <a:blip r:embed="rId2"/>
          <a:srcRect l="13956" t="545" r="893" b="923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" descr=""/>
          <p:cNvPicPr/>
          <p:nvPr/>
        </p:nvPicPr>
        <p:blipFill>
          <a:blip r:embed="rId3"/>
          <a:stretch/>
        </p:blipFill>
        <p:spPr>
          <a:xfrm>
            <a:off x="5472000" y="582480"/>
            <a:ext cx="3184560" cy="360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01560" indent="-118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8431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Connettore 1 6"/>
          <p:cNvSpPr/>
          <p:nvPr/>
        </p:nvSpPr>
        <p:spPr>
          <a:xfrm>
            <a:off x="0" y="527040"/>
            <a:ext cx="7292880" cy="237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Immagine 7" descr=""/>
          <p:cNvPicPr/>
          <p:nvPr/>
        </p:nvPicPr>
        <p:blipFill>
          <a:blip r:embed="rId2"/>
          <a:stretch/>
        </p:blipFill>
        <p:spPr>
          <a:xfrm>
            <a:off x="7475400" y="334800"/>
            <a:ext cx="1359000" cy="2811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01560" indent="-118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8431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4"/>
          </p:nvPr>
        </p:nvSpPr>
        <p:spPr>
          <a:xfrm>
            <a:off x="6457680" y="484452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1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C20D371-8596-4BDB-9302-F001CE1EA6DF}" type="slidenum">
              <a:rPr b="1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Chart 5" descr=""/>
          <p:cNvPicPr/>
          <p:nvPr/>
        </p:nvPicPr>
        <p:blipFill>
          <a:blip r:embed="rId2"/>
          <a:stretch/>
        </p:blipFill>
        <p:spPr>
          <a:xfrm>
            <a:off x="5316480" y="1262160"/>
            <a:ext cx="3365640" cy="3139920"/>
          </a:xfrm>
          <a:prstGeom prst="rect">
            <a:avLst/>
          </a:prstGeom>
          <a:ln w="0">
            <a:noFill/>
          </a:ln>
        </p:spPr>
      </p:pic>
      <p:sp>
        <p:nvSpPr>
          <p:cNvPr id="283" name="Connettore 1 7"/>
          <p:cNvSpPr/>
          <p:nvPr/>
        </p:nvSpPr>
        <p:spPr>
          <a:xfrm>
            <a:off x="0" y="527040"/>
            <a:ext cx="7292880" cy="237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Immagine 8" descr=""/>
          <p:cNvPicPr/>
          <p:nvPr/>
        </p:nvPicPr>
        <p:blipFill>
          <a:blip r:embed="rId3"/>
          <a:stretch/>
        </p:blipFill>
        <p:spPr>
          <a:xfrm>
            <a:off x="7475400" y="334800"/>
            <a:ext cx="1359000" cy="2811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01560" indent="-118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8431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5"/>
          </p:nvPr>
        </p:nvSpPr>
        <p:spPr>
          <a:xfrm>
            <a:off x="6457680" y="484452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1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65260B0-E473-4A09-B670-B065783FDF52}" type="slidenum">
              <a:rPr b="1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Chart 7" descr=""/>
          <p:cNvPicPr/>
          <p:nvPr/>
        </p:nvPicPr>
        <p:blipFill>
          <a:blip r:embed="rId2"/>
          <a:stretch/>
        </p:blipFill>
        <p:spPr>
          <a:xfrm>
            <a:off x="558720" y="2071800"/>
            <a:ext cx="7799400" cy="2751120"/>
          </a:xfrm>
          <a:prstGeom prst="rect">
            <a:avLst/>
          </a:prstGeom>
          <a:ln w="0">
            <a:noFill/>
          </a:ln>
        </p:spPr>
      </p:pic>
      <p:sp>
        <p:nvSpPr>
          <p:cNvPr id="325" name="Connettore 1 7"/>
          <p:cNvSpPr/>
          <p:nvPr/>
        </p:nvSpPr>
        <p:spPr>
          <a:xfrm>
            <a:off x="0" y="527040"/>
            <a:ext cx="7292880" cy="23760"/>
          </a:xfrm>
          <a:prstGeom prst="line">
            <a:avLst/>
          </a:prstGeom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Immagine 8" descr=""/>
          <p:cNvPicPr/>
          <p:nvPr/>
        </p:nvPicPr>
        <p:blipFill>
          <a:blip r:embed="rId3"/>
          <a:stretch/>
        </p:blipFill>
        <p:spPr>
          <a:xfrm>
            <a:off x="7475400" y="334800"/>
            <a:ext cx="1359000" cy="2811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603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01560" indent="-1188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8431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08432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6"/>
          </p:nvPr>
        </p:nvSpPr>
        <p:spPr>
          <a:xfrm>
            <a:off x="6457680" y="484452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  <a:defRPr b="1" lang="en-US" sz="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BEC7E3F1-75CF-43CA-9274-5C1012EE2394}" type="slidenum">
              <a:rPr b="1" lang="en-US" sz="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500800" y="2099880"/>
            <a:ext cx="346536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5500440" y="2463840"/>
            <a:ext cx="31906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300" spc="-1" strike="noStrike">
              <a:solidFill>
                <a:srgbClr val="d81e21"/>
              </a:solidFill>
              <a:latin typeface="Calibri"/>
            </a:endParaRPr>
          </a:p>
        </p:txBody>
      </p:sp>
      <p:sp>
        <p:nvSpPr>
          <p:cNvPr id="467" name="Rectangle 3"/>
          <p:cNvSpPr/>
          <p:nvPr/>
        </p:nvSpPr>
        <p:spPr>
          <a:xfrm>
            <a:off x="5560920" y="3539160"/>
            <a:ext cx="979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cc001a"/>
                </a:solidFill>
                <a:latin typeface="Calibri"/>
              </a:rPr>
              <a:t>Nome Divisi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Italic"/>
              </a:rPr>
              <a:t>Segrate,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486040" y="2107800"/>
            <a:ext cx="33498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5486040" y="2471760"/>
            <a:ext cx="3349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/>
          <a:srcRect l="0" t="19158" r="316" b="-76"/>
          <a:stretch/>
        </p:blipFill>
        <p:spPr>
          <a:xfrm>
            <a:off x="0" y="2703600"/>
            <a:ext cx="457200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486040" y="2107800"/>
            <a:ext cx="33498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486040" y="2471760"/>
            <a:ext cx="3349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400" spc="-1" strike="noStrike">
              <a:solidFill>
                <a:srgbClr val="d81e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486040" y="2107800"/>
            <a:ext cx="33498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5486040" y="2471760"/>
            <a:ext cx="3349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400" spc="-1" strike="noStrike">
              <a:solidFill>
                <a:srgbClr val="d81e2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6"/>
          <p:cNvSpPr/>
          <p:nvPr/>
        </p:nvSpPr>
        <p:spPr>
          <a:xfrm>
            <a:off x="0" y="4843440"/>
            <a:ext cx="9144000" cy="30024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470560" y="1951200"/>
            <a:ext cx="334944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5470560" y="2316240"/>
            <a:ext cx="334944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400" spc="-1" strike="noStrike">
              <a:solidFill>
                <a:srgbClr val="d81e21"/>
              </a:solidFill>
              <a:latin typeface="Calibri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5433480" y="1333440"/>
            <a:ext cx="98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cc001a"/>
                </a:solidFill>
                <a:latin typeface="Calibri"/>
              </a:rPr>
              <a:t>AGEN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 Italic"/>
              </a:rPr>
              <a:t>00 mese 0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5"/>
          <p:cNvSpPr/>
          <p:nvPr/>
        </p:nvSpPr>
        <p:spPr>
          <a:xfrm>
            <a:off x="5510520" y="2944080"/>
            <a:ext cx="12124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 - Nome Cogn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Titolo interve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 - Nome Cogn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Titolo interven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 - Nome Cogn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Titolo interven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0" y="4843440"/>
            <a:ext cx="9144000" cy="36828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6"/>
          <p:cNvSpPr/>
          <p:nvPr/>
        </p:nvSpPr>
        <p:spPr>
          <a:xfrm>
            <a:off x="6458040" y="484488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FFE986C-BFBE-48EE-9FD6-D25A08A0E5A6}" type="slidenum">
              <a:rPr b="1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648720"/>
            <a:ext cx="78868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tretch/>
        </p:blipFill>
        <p:spPr>
          <a:xfrm>
            <a:off x="633240" y="4995720"/>
            <a:ext cx="1143000" cy="76320"/>
          </a:xfrm>
          <a:prstGeom prst="rect">
            <a:avLst/>
          </a:prstGeom>
          <a:ln w="0">
            <a:noFill/>
          </a:ln>
        </p:spPr>
      </p:pic>
      <p:sp>
        <p:nvSpPr>
          <p:cNvPr id="485" name="TextBox 5"/>
          <p:cNvSpPr/>
          <p:nvPr/>
        </p:nvSpPr>
        <p:spPr>
          <a:xfrm>
            <a:off x="617400" y="347760"/>
            <a:ext cx="2517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900" spc="-1" strike="noStrike">
                <a:solidFill>
                  <a:srgbClr val="a6a6a6"/>
                </a:solidFill>
                <a:latin typeface="Calibri"/>
              </a:rPr>
              <a:t>Titolo  documento - Mese XXXX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3"/>
          <p:cNvSpPr/>
          <p:nvPr/>
        </p:nvSpPr>
        <p:spPr>
          <a:xfrm>
            <a:off x="0" y="4843440"/>
            <a:ext cx="9225000" cy="30024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883080"/>
            <a:ext cx="78868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659880" y="1846080"/>
            <a:ext cx="3986280" cy="21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6458040" y="484488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4F580A7-1344-4F71-B865-4D941186F350}" type="slidenum">
              <a:rPr b="1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4" descr=""/>
          <p:cNvPicPr/>
          <p:nvPr/>
        </p:nvPicPr>
        <p:blipFill>
          <a:blip r:embed="rId1"/>
          <a:stretch/>
        </p:blipFill>
        <p:spPr>
          <a:xfrm>
            <a:off x="739800" y="4964040"/>
            <a:ext cx="1141560" cy="74520"/>
          </a:xfrm>
          <a:prstGeom prst="rect">
            <a:avLst/>
          </a:prstGeom>
          <a:ln w="0">
            <a:noFill/>
          </a:ln>
        </p:spPr>
      </p:pic>
      <p:sp>
        <p:nvSpPr>
          <p:cNvPr id="491" name="TextBox 5"/>
          <p:cNvSpPr/>
          <p:nvPr/>
        </p:nvSpPr>
        <p:spPr>
          <a:xfrm>
            <a:off x="642960" y="195120"/>
            <a:ext cx="2517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900" spc="-1" strike="noStrike">
                <a:solidFill>
                  <a:srgbClr val="a6a6a6"/>
                </a:solidFill>
                <a:latin typeface="Calibri"/>
              </a:rPr>
              <a:t>Titolo  documento - Mese XXXX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0" y="4876920"/>
            <a:ext cx="9144000" cy="298440"/>
          </a:xfrm>
          <a:prstGeom prst="rect">
            <a:avLst/>
          </a:prstGeom>
          <a:solidFill>
            <a:srgbClr val="d5d3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28560" y="1158480"/>
            <a:ext cx="788688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9160" indent="-119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6"/>
          <p:cNvSpPr/>
          <p:nvPr/>
        </p:nvSpPr>
        <p:spPr>
          <a:xfrm>
            <a:off x="6458040" y="484488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473A2CE6-003B-43E2-8E6D-E9CEC35C3A71}" type="slidenum">
              <a:rPr b="1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28560" y="648720"/>
            <a:ext cx="78868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tretch/>
        </p:blipFill>
        <p:spPr>
          <a:xfrm>
            <a:off x="1612800" y="4956120"/>
            <a:ext cx="1143000" cy="74520"/>
          </a:xfrm>
          <a:prstGeom prst="rect">
            <a:avLst/>
          </a:prstGeom>
          <a:ln w="0">
            <a:noFill/>
          </a:ln>
        </p:spPr>
      </p:pic>
      <p:sp>
        <p:nvSpPr>
          <p:cNvPr id="497" name="TextBox 5"/>
          <p:cNvSpPr/>
          <p:nvPr/>
        </p:nvSpPr>
        <p:spPr>
          <a:xfrm>
            <a:off x="642960" y="235080"/>
            <a:ext cx="2517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900" spc="-1" strike="noStrike">
                <a:solidFill>
                  <a:srgbClr val="a6a6a6"/>
                </a:solidFill>
                <a:latin typeface="Calibri"/>
              </a:rPr>
              <a:t>Titolo  documento - Mese XXXX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659880" y="1165320"/>
            <a:ext cx="4132440" cy="2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egnaposto numero diapositiva 2"/>
          <p:cNvSpPr/>
          <p:nvPr/>
        </p:nvSpPr>
        <p:spPr>
          <a:xfrm>
            <a:off x="6458040" y="4844880"/>
            <a:ext cx="205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149DD3DB-382E-4966-8BCA-61AF6B3BBD11}" type="slidenum">
              <a:rPr b="1" lang="en-US" sz="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5"/>
          <p:cNvSpPr/>
          <p:nvPr/>
        </p:nvSpPr>
        <p:spPr>
          <a:xfrm>
            <a:off x="642960" y="235080"/>
            <a:ext cx="2517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n-US" sz="900" spc="-1" strike="noStrike">
                <a:solidFill>
                  <a:srgbClr val="a6a6a6"/>
                </a:solidFill>
                <a:latin typeface="Calibri"/>
              </a:rPr>
              <a:t>Titolo  documento - Mese XXXX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4T16:06:39Z</dcterms:created>
  <dc:creator>Microsoft Office User</dc:creator>
  <dc:description/>
  <dc:language>en-US</dc:language>
  <cp:lastModifiedBy>Utente di Microsoft Office</cp:lastModifiedBy>
  <dcterms:modified xsi:type="dcterms:W3CDTF">2018-12-19T16:05:55Z</dcterms:modified>
  <cp:revision>33</cp:revision>
  <dc:subject/>
  <dc:title>PowerPoint Presentation</dc:title>
</cp:coreProperties>
</file>