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5E6F-82EE-4941-82F5-EAA543527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3F41-5C8F-48B7-9321-F8A6E1C8D0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72FA-A17A-4AE4-B12F-239A19F6C4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59CF-496F-4D52-887C-4F669AC906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C203-29C6-481A-8616-23835B7373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4AB3-AEEA-4480-99D8-5EC6281BDF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A116-C90B-48A3-A2FB-4CFAB4B45C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F2CE-0E9F-4AEE-A56F-E5B90F0160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37D7-1DEC-4672-9CD6-9098F82B5E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930B-CECC-4C2D-B914-38CCD6E362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99BE-3EBD-44C5-A4CB-F5ED993AD2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850AD-40FA-49B3-ACD7-4861BC660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BFFE-3872-401C-80F7-CAB80D6A92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1E167-5110-4B11-92D1-C9AFF86D08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13336-A717-4DE2-AEB2-CFBD3B01D2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A76BC-0794-41A4-9B02-769A74C106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3F1AB-849C-45B8-9924-FCE3D4C6C1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9C68C-BC53-45EE-BF4E-19EF16336F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0CF74-FB78-4D91-95D1-EA9A13DB89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2942E-2A0C-443F-A371-107810BA8F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AF903-F1B7-4679-8A6A-0A149D91AF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6E015-B85D-4936-B54F-98EF5E8D83F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A5675-0997-468D-8619-1CE673CDD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23A0-B20B-418B-A2A3-80BEF07520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5E91B-C938-40E7-9DDA-D66ABD745D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A1EDF-3F11-4B9C-9B69-2246D7B7A2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61E82-D111-47F9-9DC1-172F21CC47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B7133-1330-4222-98E0-81B26DF5EB7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F77DC-3210-43DD-85C2-20F072B640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13D45-BC05-4C79-B790-D7C2CA316D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FCE65-FD2D-4771-B68C-AD98AE6BCC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2E00A-11D6-47C0-9C82-B636C9C191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8EA24-35F4-43AB-8B96-2264594280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1CA62-CA40-4631-B749-0A0FFB1D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F108-5126-4302-B7D9-FAFE428EF9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AED7C-8DBA-4F19-8BFB-E7E9FB1069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BA51D-1617-4986-A226-C523758BFB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6616F-8D7F-462A-931D-5CCFD80F51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140A-1AD5-4083-9571-B00819E2BD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4EAE-ADAD-4FFA-8374-77B1D5DE8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5AF2-C3A4-4BD8-84B4-5DE48DEA23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E0E2-43FA-48F3-A046-343C03996A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33AD-A351-4926-B859-D87335B28A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B0D5-7A19-44DC-89EA-D047851A2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F551-E109-4D18-B8EB-EA5B20FB9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F567-71B4-44CA-B3CD-B8820DAFF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D688-EFF3-4BB2-94E1-FE02349BF4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5F6E-EFCA-4AA5-96BA-4CD610610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BF96-233A-4BAB-A302-75A18E3E4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0447-2574-4553-9A6E-604AE3F9C3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ECD-0C11-4734-A022-CCBE73D476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9BE-F70D-4ADB-8AF9-A0F8B4CB82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E83-33F1-4E65-96AD-3DE5E66B1E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BF8-D567-47EE-AB99-A0F687B121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389-480D-4C9B-B59C-C3AD7438B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10D7-484F-488C-882A-F33FEDE079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8F6-C321-477E-B608-0B3371A624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579-4DEB-483A-9B54-CEAE714CA7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C53-DE36-46FB-8EFF-F086753FC5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F95-FFB4-44BA-A847-17DEE46709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558-AA7E-4200-BE68-C54F02FC82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51B-2515-4B74-9F6F-D5209B38B5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1D5-C2D6-4728-AB1A-965E6F4BB5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47698-9D98-42BF-A0D7-9989BB02DD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D8C33-04F8-4992-8239-628E912D12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D20B-0CFB-4A11-8012-A37E12547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F994-BE9E-4324-8364-B575672608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39B9-0457-46D3-AAB8-5BF5F18AED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DEA8-7F05-4C86-8AA6-355B3201E3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F7A83-951A-4E01-B77D-EC3AD32738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FC4A7-0ADA-4D7B-AAFF-294BEC4AC5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D17CA-C79B-42FF-A217-658C2F4BAE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15F59-9094-439A-A306-901A28D8B1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CAAE-E96A-4820-8BC9-B3A9325B33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BB524-4EEB-43F0-B7FE-BFBAC0F456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6D6B2-CFEA-45E9-9E97-29EFF9ADDB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AC76-3821-45D3-A7C1-1876EE582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F7D-623B-49DA-AB56-5359A5CA08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DFA55-2B9F-4502-8CDB-63270937EF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ECEB4-D2C2-4C0D-ACC9-738A812938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5E0B-8BEC-45EE-8C4A-6F1A8CEDBD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FDA61-8176-4D85-BABF-DD931A3CE7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81B50-5599-44C1-863A-3C96A5C71A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A3698-C4A2-454E-B85A-FB477CFC38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EC625-1891-474E-9939-7ACB5F6CFF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A8E3-C018-4907-A30B-9EAF43F4A5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257F-B1E6-43D5-9237-4FE0B0326B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11948-CA74-456B-8935-42755FB2B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AD78-A290-49AB-BBBC-CFC9642E09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D965-5D99-488C-8580-5BAB879517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DD4-AE48-4CB9-B7A1-7809261F67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83E8-1156-4CBA-B046-A68514D009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153-49E9-4A45-A5F7-79A904AC07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B753-BC3C-4E51-AD74-1D3C1C1CC2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FEFC-03BA-45EA-8550-6B55ADEB09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CA9C-5781-4F2C-93BB-4D51EB92F2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6E7C-EEED-44B7-A864-DED64E80AF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6709-99A8-482B-8A59-BBB382CA5E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24C-EAE7-4FB7-9F36-8F92C41AF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B0EE-19CF-476A-969E-8CF16C68DA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113-C756-421E-B79F-2821AAB9B0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58F-AA4D-4C8B-B4B3-6DA613A1E8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219-8731-4F75-9AF8-399164B46A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AAFA1-4BA4-4754-83D0-95C0C9C94B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653AD-7920-4B77-A776-D441E2D1E1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7648D-2BAA-477E-BCFB-C14A568B03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418A84-5B71-46B8-8898-AC2BEE8D12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1DC1D-A869-4F70-8D7B-9FA6EDAABA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C5494-FEE3-41B0-B8FE-9F4506549E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1747D-56E8-4927-9CC7-67312AAA6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4629-E3BA-4753-8CCE-60D0FBAEBE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2A57B-B2AB-4963-B87F-6E91791827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CF83F-6610-4673-8143-CBE36C14D5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A42FF-34F8-4E07-94D8-3EC450E912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05993-5DB0-44C6-BA27-54AFCB7261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A7E87-C0CF-4407-8B8B-85FE53DC2A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54C40-3321-4529-B638-E3643ED65A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75B0D-5B73-4AFA-B1E7-42325930CDD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ADDA2-78EA-4D68-90E2-8F901AF265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0C1AF-881C-4DC5-97CC-41AD824501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D1F50-5AC8-4F78-B515-66B719226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BC62-A7AF-4956-80C8-20783686BA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F86A6-DC89-47C8-A66F-E63F93297B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8AFF0-C8BC-4342-B534-DA3DE0BCE1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3B81D-9468-4BCB-8F6B-79394ED448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CBCEF-EE1E-4C4C-BF52-1021FAA06A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7B31B-88D5-4821-B207-F700E29332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516D4-9EC5-44FB-9B16-6979C35143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0180A-91D1-4A15-8ACE-043A441FEC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5B58-BF28-437F-8B03-7768567CFF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6B00-F43D-4B2F-AC59-7FD015741C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380A-6848-4712-904B-A35323C9D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97.xml"/><Relationship Id="rId27" Type="http://schemas.openxmlformats.org/officeDocument/2006/relationships/slideLayout" Target="../slideLayouts/slideLayout98.xml"/><Relationship Id="rId28" Type="http://schemas.openxmlformats.org/officeDocument/2006/relationships/slideLayout" Target="../slideLayouts/slideLayout99.xml"/><Relationship Id="rId29" Type="http://schemas.openxmlformats.org/officeDocument/2006/relationships/slideLayout" Target="../slideLayouts/slideLayout100.xml"/><Relationship Id="rId30" Type="http://schemas.openxmlformats.org/officeDocument/2006/relationships/slideLayout" Target="../slideLayouts/slideLayout101.xml"/><Relationship Id="rId31" Type="http://schemas.openxmlformats.org/officeDocument/2006/relationships/slideLayout" Target="../slideLayouts/slideLayout102.xml"/><Relationship Id="rId32" Type="http://schemas.openxmlformats.org/officeDocument/2006/relationships/slideLayout" Target="../slideLayouts/slideLayout103.xml"/><Relationship Id="rId33" Type="http://schemas.openxmlformats.org/officeDocument/2006/relationships/slideLayout" Target="../slideLayouts/slideLayout104.xml"/><Relationship Id="rId34" Type="http://schemas.openxmlformats.org/officeDocument/2006/relationships/slideLayout" Target="../slideLayouts/slideLayout105.xml"/><Relationship Id="rId35" Type="http://schemas.openxmlformats.org/officeDocument/2006/relationships/slideLayout" Target="../slideLayouts/slideLayout106.xml"/><Relationship Id="rId36" Type="http://schemas.openxmlformats.org/officeDocument/2006/relationships/slideLayout" Target="../slideLayouts/slideLayout107.xml"/><Relationship Id="rId3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266280" y="9360000"/>
            <a:ext cx="34596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3AEE5B-CD01-400A-B97E-1B842CC588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_Libri_Marchio_Compact_Pos_Cmyk.pdf" descr=""/>
          <p:cNvPicPr/>
          <p:nvPr/>
        </p:nvPicPr>
        <p:blipFill>
          <a:blip r:embed="rId9"/>
          <a:stretch/>
        </p:blipFill>
        <p:spPr>
          <a:xfrm>
            <a:off x="11999880" y="2062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4" name="Shape 6"/>
          <p:cNvSpPr/>
          <p:nvPr/>
        </p:nvSpPr>
        <p:spPr>
          <a:xfrm>
            <a:off x="-7920" y="776160"/>
            <a:ext cx="118346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98DFB8-53BB-4D47-95CA-C881476C301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vg&gt;.pdf" descr=""/>
          <p:cNvPicPr/>
          <p:nvPr/>
        </p:nvPicPr>
        <p:blipFill>
          <a:blip r:embed="rId2"/>
          <a:stretch/>
        </p:blipFill>
        <p:spPr>
          <a:xfrm>
            <a:off x="-2127240" y="-6984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430" name="M_Gruppo_Marchio_Compact_Pos_Rgb.png" descr=""/>
          <p:cNvPicPr/>
          <p:nvPr/>
        </p:nvPicPr>
        <p:blipFill>
          <a:blip r:embed="rId3"/>
          <a:stretch/>
        </p:blipFill>
        <p:spPr>
          <a:xfrm>
            <a:off x="9207360" y="3657600"/>
            <a:ext cx="1524240" cy="9907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3AA91-1119-4D16-B228-69AE5B00741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vg&gt;.pdf" descr=""/>
          <p:cNvPicPr/>
          <p:nvPr/>
        </p:nvPicPr>
        <p:blipFill>
          <a:blip r:embed="rId2"/>
          <a:stretch/>
        </p:blipFill>
        <p:spPr>
          <a:xfrm>
            <a:off x="-2127240" y="-6984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42" name="M_Libri_Marchio_Pos_Cmyk.pdf" descr=""/>
          <p:cNvPicPr/>
          <p:nvPr/>
        </p:nvPicPr>
        <p:blipFill>
          <a:blip r:embed="rId3"/>
          <a:stretch/>
        </p:blipFill>
        <p:spPr>
          <a:xfrm>
            <a:off x="7813800" y="1417680"/>
            <a:ext cx="3012840" cy="63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FBED61-8838-4481-9E29-4F04F864279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vg&gt;.pdf" descr=""/>
          <p:cNvPicPr/>
          <p:nvPr/>
        </p:nvPicPr>
        <p:blipFill>
          <a:blip r:embed="rId2"/>
          <a:stretch/>
        </p:blipFill>
        <p:spPr>
          <a:xfrm>
            <a:off x="-2133720" y="-73080"/>
            <a:ext cx="15265440" cy="9907560"/>
          </a:xfrm>
          <a:prstGeom prst="rect">
            <a:avLst/>
          </a:prstGeom>
          <a:ln w="0">
            <a:noFill/>
          </a:ln>
        </p:spPr>
      </p:pic>
      <p:pic>
        <p:nvPicPr>
          <p:cNvPr id="83" name="svg&gt;.pdf" descr=""/>
          <p:cNvPicPr/>
          <p:nvPr/>
        </p:nvPicPr>
        <p:blipFill>
          <a:blip r:embed="rId3"/>
          <a:srcRect l="0" t="0" r="1948" b="0"/>
          <a:stretch/>
        </p:blipFill>
        <p:spPr>
          <a:xfrm>
            <a:off x="-552600" y="5118120"/>
            <a:ext cx="704232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pasted-image.pdf" descr=""/>
          <p:cNvPicPr/>
          <p:nvPr/>
        </p:nvPicPr>
        <p:blipFill>
          <a:blip r:embed="rId4"/>
          <a:stretch/>
        </p:blipFill>
        <p:spPr>
          <a:xfrm>
            <a:off x="7821720" y="1436760"/>
            <a:ext cx="301284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780990-E3FB-4B6F-813E-48AE769D052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vg&gt;.pdf" descr=""/>
          <p:cNvPicPr/>
          <p:nvPr/>
        </p:nvPicPr>
        <p:blipFill>
          <a:blip r:embed="rId2"/>
          <a:stretch/>
        </p:blipFill>
        <p:spPr>
          <a:xfrm>
            <a:off x="-2133720" y="-7776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125" name="pasted-image.pdf" descr=""/>
          <p:cNvPicPr/>
          <p:nvPr/>
        </p:nvPicPr>
        <p:blipFill>
          <a:blip r:embed="rId3"/>
          <a:stretch/>
        </p:blipFill>
        <p:spPr>
          <a:xfrm>
            <a:off x="7821720" y="1436760"/>
            <a:ext cx="3012840" cy="631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F0F6CE-4D65-429A-8D7C-E75A67BCB0F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vg&gt;.pdf" descr=""/>
          <p:cNvPicPr/>
          <p:nvPr/>
        </p:nvPicPr>
        <p:blipFill>
          <a:blip r:embed="rId2"/>
          <a:stretch/>
        </p:blipFill>
        <p:spPr>
          <a:xfrm>
            <a:off x="-2133720" y="-7776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166" name="pasted-image.pdf" descr=""/>
          <p:cNvPicPr/>
          <p:nvPr/>
        </p:nvPicPr>
        <p:blipFill>
          <a:blip r:embed="rId3"/>
          <a:stretch/>
        </p:blipFill>
        <p:spPr>
          <a:xfrm>
            <a:off x="7821720" y="1436760"/>
            <a:ext cx="3012840" cy="63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424856-DAFD-4155-8565-641F882F3B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vg&gt;.pdf" descr=""/>
          <p:cNvPicPr/>
          <p:nvPr/>
        </p:nvPicPr>
        <p:blipFill>
          <a:blip r:embed="rId2"/>
          <a:stretch/>
        </p:blipFill>
        <p:spPr>
          <a:xfrm>
            <a:off x="-2133720" y="-76320"/>
            <a:ext cx="15240240" cy="9880560"/>
          </a:xfrm>
          <a:prstGeom prst="rect">
            <a:avLst/>
          </a:prstGeom>
          <a:ln w="0">
            <a:noFill/>
          </a:ln>
        </p:spPr>
      </p:pic>
      <p:pic>
        <p:nvPicPr>
          <p:cNvPr id="207" name="M_Libri_Marchio_Pos_Cmyk.ai" descr=""/>
          <p:cNvPicPr/>
          <p:nvPr/>
        </p:nvPicPr>
        <p:blipFill>
          <a:blip r:embed="rId3"/>
          <a:stretch/>
        </p:blipFill>
        <p:spPr>
          <a:xfrm>
            <a:off x="7813800" y="1417680"/>
            <a:ext cx="3012840" cy="63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F60C9A-411C-42A4-A10F-22BC88187E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hart 78" descr=""/>
          <p:cNvPicPr/>
          <p:nvPr/>
        </p:nvPicPr>
        <p:blipFill>
          <a:blip r:embed="rId2"/>
          <a:stretch/>
        </p:blipFill>
        <p:spPr>
          <a:xfrm>
            <a:off x="7210440" y="2705040"/>
            <a:ext cx="4025880" cy="5010120"/>
          </a:xfrm>
          <a:prstGeom prst="rect">
            <a:avLst/>
          </a:prstGeom>
          <a:ln w="0">
            <a:noFill/>
          </a:ln>
        </p:spPr>
      </p:pic>
      <p:pic>
        <p:nvPicPr>
          <p:cNvPr id="248" name="M_Libri_Marchio_Compact_Pos_Cmyk.ai" descr=""/>
          <p:cNvPicPr/>
          <p:nvPr/>
        </p:nvPicPr>
        <p:blipFill>
          <a:blip r:embed="rId3"/>
          <a:stretch/>
        </p:blipFill>
        <p:spPr>
          <a:xfrm>
            <a:off x="11999880" y="2062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49" name="Shape 83"/>
          <p:cNvSpPr/>
          <p:nvPr/>
        </p:nvSpPr>
        <p:spPr>
          <a:xfrm>
            <a:off x="-7920" y="776160"/>
            <a:ext cx="118346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7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43A971-1ED8-4C3D-834B-F408A4F754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hart 90" descr=""/>
          <p:cNvPicPr/>
          <p:nvPr/>
        </p:nvPicPr>
        <p:blipFill>
          <a:blip r:embed="rId2"/>
          <a:stretch/>
        </p:blipFill>
        <p:spPr>
          <a:xfrm>
            <a:off x="738360" y="4756320"/>
            <a:ext cx="11555280" cy="4216320"/>
          </a:xfrm>
          <a:prstGeom prst="rect">
            <a:avLst/>
          </a:prstGeom>
          <a:ln w="0">
            <a:noFill/>
          </a:ln>
        </p:spPr>
      </p:pic>
      <p:pic>
        <p:nvPicPr>
          <p:cNvPr id="290" name="M_Libri_Marchio_Compact_Pos_Cmyk.ai" descr=""/>
          <p:cNvPicPr/>
          <p:nvPr/>
        </p:nvPicPr>
        <p:blipFill>
          <a:blip r:embed="rId3"/>
          <a:stretch/>
        </p:blipFill>
        <p:spPr>
          <a:xfrm>
            <a:off x="11999880" y="2062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91" name="Shape 95"/>
          <p:cNvSpPr/>
          <p:nvPr/>
        </p:nvSpPr>
        <p:spPr>
          <a:xfrm>
            <a:off x="-7920" y="776160"/>
            <a:ext cx="118346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8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B73A0C-0CF5-47AE-A2F5-7B46D72EA2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hape 102"/>
          <p:cNvSpPr/>
          <p:nvPr/>
        </p:nvSpPr>
        <p:spPr>
          <a:xfrm>
            <a:off x="5793480" y="346680"/>
            <a:ext cx="14083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d81f21"/>
                </a:solidFill>
                <a:latin typeface="Calibri"/>
                <a:ea typeface="Calibri"/>
              </a:rPr>
              <a:t>Color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2" name="svg&gt;.pdf" descr=""/>
          <p:cNvPicPr/>
          <p:nvPr/>
        </p:nvPicPr>
        <p:blipFill>
          <a:blip r:embed="rId2"/>
          <a:stretch/>
        </p:blipFill>
        <p:spPr>
          <a:xfrm>
            <a:off x="514440" y="1473120"/>
            <a:ext cx="11963160" cy="7797960"/>
          </a:xfrm>
          <a:prstGeom prst="rect">
            <a:avLst/>
          </a:prstGeom>
          <a:ln w="0">
            <a:noFill/>
          </a:ln>
        </p:spPr>
      </p:pic>
      <p:sp>
        <p:nvSpPr>
          <p:cNvPr id="333" name="Shape 104"/>
          <p:cNvSpPr/>
          <p:nvPr/>
        </p:nvSpPr>
        <p:spPr>
          <a:xfrm>
            <a:off x="2743920" y="16268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NAL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Shape 105"/>
          <p:cNvSpPr/>
          <p:nvPr/>
        </p:nvSpPr>
        <p:spPr>
          <a:xfrm>
            <a:off x="8418600" y="1626840"/>
            <a:ext cx="1873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CCENTI SOF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svg&gt;.pdf" descr=""/>
          <p:cNvPicPr/>
          <p:nvPr/>
        </p:nvPicPr>
        <p:blipFill>
          <a:blip r:embed="rId3"/>
          <a:stretch/>
        </p:blipFill>
        <p:spPr>
          <a:xfrm>
            <a:off x="2171880" y="280656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6" name="svg&gt;.pdf" descr=""/>
          <p:cNvPicPr/>
          <p:nvPr/>
        </p:nvPicPr>
        <p:blipFill>
          <a:blip r:embed="rId4"/>
          <a:stretch/>
        </p:blipFill>
        <p:spPr>
          <a:xfrm>
            <a:off x="3454560" y="280656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svg&gt;.pdf" descr=""/>
          <p:cNvPicPr/>
          <p:nvPr/>
        </p:nvPicPr>
        <p:blipFill>
          <a:blip r:embed="rId5"/>
          <a:stretch/>
        </p:blipFill>
        <p:spPr>
          <a:xfrm>
            <a:off x="2171880" y="412740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8" name="svg&gt;.pdf" descr=""/>
          <p:cNvPicPr/>
          <p:nvPr/>
        </p:nvPicPr>
        <p:blipFill>
          <a:blip r:embed="rId6"/>
          <a:stretch/>
        </p:blipFill>
        <p:spPr>
          <a:xfrm>
            <a:off x="3454560" y="412740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9" name="svg&gt;.pdf" descr=""/>
          <p:cNvPicPr/>
          <p:nvPr/>
        </p:nvPicPr>
        <p:blipFill>
          <a:blip r:embed="rId7"/>
          <a:stretch/>
        </p:blipFill>
        <p:spPr>
          <a:xfrm>
            <a:off x="2171880" y="542304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0" name="svg&gt;.pdf" descr=""/>
          <p:cNvPicPr/>
          <p:nvPr/>
        </p:nvPicPr>
        <p:blipFill>
          <a:blip r:embed="rId8"/>
          <a:stretch/>
        </p:blipFill>
        <p:spPr>
          <a:xfrm>
            <a:off x="3454560" y="542304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1" name="svg&gt;.pdf" descr=""/>
          <p:cNvPicPr/>
          <p:nvPr/>
        </p:nvPicPr>
        <p:blipFill>
          <a:blip r:embed="rId9"/>
          <a:stretch/>
        </p:blipFill>
        <p:spPr>
          <a:xfrm>
            <a:off x="2171880" y="673092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42" name="svg&gt;.pdf" descr=""/>
          <p:cNvPicPr/>
          <p:nvPr/>
        </p:nvPicPr>
        <p:blipFill>
          <a:blip r:embed="rId10"/>
          <a:stretch/>
        </p:blipFill>
        <p:spPr>
          <a:xfrm>
            <a:off x="3454560" y="674388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3" name="svg&gt;.pdf" descr=""/>
          <p:cNvPicPr/>
          <p:nvPr/>
        </p:nvPicPr>
        <p:blipFill>
          <a:blip r:embed="rId11"/>
          <a:stretch/>
        </p:blipFill>
        <p:spPr>
          <a:xfrm>
            <a:off x="8267760" y="28321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4" name="svg&gt;.pdf" descr=""/>
          <p:cNvPicPr/>
          <p:nvPr/>
        </p:nvPicPr>
        <p:blipFill>
          <a:blip r:embed="rId12"/>
          <a:stretch/>
        </p:blipFill>
        <p:spPr>
          <a:xfrm>
            <a:off x="9550440" y="28321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5" name="svg&gt;.pdf" descr=""/>
          <p:cNvPicPr/>
          <p:nvPr/>
        </p:nvPicPr>
        <p:blipFill>
          <a:blip r:embed="rId13"/>
          <a:stretch/>
        </p:blipFill>
        <p:spPr>
          <a:xfrm>
            <a:off x="8267760" y="412740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6" name="svg&gt;.pdf" descr=""/>
          <p:cNvPicPr/>
          <p:nvPr/>
        </p:nvPicPr>
        <p:blipFill>
          <a:blip r:embed="rId14"/>
          <a:stretch/>
        </p:blipFill>
        <p:spPr>
          <a:xfrm>
            <a:off x="9550440" y="412740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7" name="svg&gt;.pdf" descr=""/>
          <p:cNvPicPr/>
          <p:nvPr/>
        </p:nvPicPr>
        <p:blipFill>
          <a:blip r:embed="rId15"/>
          <a:stretch/>
        </p:blipFill>
        <p:spPr>
          <a:xfrm>
            <a:off x="8267760" y="541008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8" name="svg&gt;.pdf" descr=""/>
          <p:cNvPicPr/>
          <p:nvPr/>
        </p:nvPicPr>
        <p:blipFill>
          <a:blip r:embed="rId16"/>
          <a:stretch/>
        </p:blipFill>
        <p:spPr>
          <a:xfrm>
            <a:off x="9550440" y="5423040"/>
            <a:ext cx="901800" cy="939600"/>
          </a:xfrm>
          <a:prstGeom prst="rect">
            <a:avLst/>
          </a:prstGeom>
          <a:ln w="0">
            <a:noFill/>
          </a:ln>
        </p:spPr>
      </p:pic>
      <p:pic>
        <p:nvPicPr>
          <p:cNvPr id="349" name="svg&gt;.pdf" descr=""/>
          <p:cNvPicPr/>
          <p:nvPr/>
        </p:nvPicPr>
        <p:blipFill>
          <a:blip r:embed="rId17"/>
          <a:stretch/>
        </p:blipFill>
        <p:spPr>
          <a:xfrm>
            <a:off x="8267760" y="67309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50" name="svg&gt;.pdf" descr=""/>
          <p:cNvPicPr/>
          <p:nvPr/>
        </p:nvPicPr>
        <p:blipFill>
          <a:blip r:embed="rId18"/>
          <a:stretch/>
        </p:blipFill>
        <p:spPr>
          <a:xfrm>
            <a:off x="9550440" y="6730920"/>
            <a:ext cx="901800" cy="939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1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2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2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2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2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2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2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D17AC5-397E-474F-86BE-5D6AB21DDA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6"/>
    <p:sldLayoutId id="2147483754" r:id="rId27"/>
    <p:sldLayoutId id="2147483755" r:id="rId28"/>
    <p:sldLayoutId id="2147483756" r:id="rId29"/>
    <p:sldLayoutId id="2147483757" r:id="rId30"/>
    <p:sldLayoutId id="2147483758" r:id="rId31"/>
    <p:sldLayoutId id="2147483759" r:id="rId32"/>
    <p:sldLayoutId id="2147483760" r:id="rId33"/>
    <p:sldLayoutId id="2147483761" r:id="rId34"/>
    <p:sldLayoutId id="2147483762" r:id="rId35"/>
    <p:sldLayoutId id="2147483763" r:id="rId36"/>
    <p:sldLayoutId id="2147483764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797960" y="4403880"/>
            <a:ext cx="48132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149"/>
          <p:cNvSpPr/>
          <p:nvPr/>
        </p:nvSpPr>
        <p:spPr>
          <a:xfrm>
            <a:off x="7854840" y="6894720"/>
            <a:ext cx="15638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Nome Divisio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grate,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hape 160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  <p:sp>
        <p:nvSpPr>
          <p:cNvPr id="482" name="Shape 163"/>
          <p:cNvSpPr/>
          <p:nvPr/>
        </p:nvSpPr>
        <p:spPr>
          <a:xfrm>
            <a:off x="7829280" y="2670480"/>
            <a:ext cx="1103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0 mese 00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Shape 164"/>
          <p:cNvSpPr/>
          <p:nvPr/>
        </p:nvSpPr>
        <p:spPr>
          <a:xfrm>
            <a:off x="7854120" y="5601960"/>
            <a:ext cx="19188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hape 166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169"/>
          <p:cNvSpPr/>
          <p:nvPr/>
        </p:nvSpPr>
        <p:spPr>
          <a:xfrm>
            <a:off x="1190556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51EB1E-6F97-4C9B-B358-A884A34C4E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8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hape 172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175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DEE607-D2D2-4BA8-8B56-10076BAB8A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3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hape 178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5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87320" y="201888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182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04C5B5-52D6-4ACD-940D-26E241AFE5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hape 184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0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  <p:sp>
        <p:nvSpPr>
          <p:cNvPr id="501" name="Shape 186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8F053F-4FC9-41CF-B7EC-590EC67821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MEN DESIGN</cp:lastModifiedBy>
  <dcterms:modified xsi:type="dcterms:W3CDTF">2016-03-01T17:05:15Z</dcterms:modified>
  <cp:revision>1</cp:revision>
  <dc:subject/>
  <dc:title>Presentazione di PowerPoint</dc:title>
</cp:coreProperties>
</file>