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png" ContentType="image/png"/>
  <Override PartName="/ppt/media/image9.png" ContentType="image/pn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</p:sldIdLst>
  <p:sldSz cx="13003213" cy="974883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8CF24-876D-4484-A840-9B3B93C5A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93880" y="519120"/>
            <a:ext cx="11215440" cy="18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93880" y="2595600"/>
            <a:ext cx="11215440" cy="29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93880" y="5826240"/>
            <a:ext cx="11215440" cy="29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A1154-B610-40C5-A03C-704307E56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93880" y="519120"/>
            <a:ext cx="11215440" cy="18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893880" y="2595600"/>
            <a:ext cx="5473080" cy="61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6640920" y="2595600"/>
            <a:ext cx="5473080" cy="61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16C348-E0F2-40D5-8024-1A494875A63C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893880" y="519120"/>
            <a:ext cx="11215440" cy="18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0A818A6-EDF8-43B3-9FBB-4D1A0EF39649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893880" y="519120"/>
            <a:ext cx="11215440" cy="87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19259A1-B8F7-4BE1-B5EA-3749143E7F37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93880" y="519120"/>
            <a:ext cx="11215440" cy="18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893880" y="2595600"/>
            <a:ext cx="5473080" cy="29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6640920" y="2595600"/>
            <a:ext cx="5473080" cy="61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893880" y="5826240"/>
            <a:ext cx="5473080" cy="29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0A33C2D-8D40-4DFE-9867-9C7EA1C7E41D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893880" y="519120"/>
            <a:ext cx="11215440" cy="18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893880" y="2595600"/>
            <a:ext cx="5473080" cy="61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6640920" y="2595600"/>
            <a:ext cx="5473080" cy="29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6640920" y="5826240"/>
            <a:ext cx="5473080" cy="29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CC2627F-B7AF-4868-B0C2-695934E9DAD5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893880" y="519120"/>
            <a:ext cx="11215440" cy="18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893880" y="2595600"/>
            <a:ext cx="5473080" cy="29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6640920" y="2595600"/>
            <a:ext cx="5473080" cy="29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893880" y="5826240"/>
            <a:ext cx="11215440" cy="29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14F3383-BA74-4721-89BE-3F9E25DC6216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93880" y="519120"/>
            <a:ext cx="11215440" cy="18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893880" y="2595600"/>
            <a:ext cx="11215440" cy="29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893880" y="5826240"/>
            <a:ext cx="11215440" cy="29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C9DA7DD-0457-4C2A-B032-377E7227066C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893880" y="519120"/>
            <a:ext cx="11215440" cy="18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893880" y="2595600"/>
            <a:ext cx="5473080" cy="29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6640920" y="2595600"/>
            <a:ext cx="5473080" cy="29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893880" y="5826240"/>
            <a:ext cx="5473080" cy="29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6640920" y="5826240"/>
            <a:ext cx="5473080" cy="29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331CEDD-EC7F-4107-B18D-37E079623EAF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893880" y="519120"/>
            <a:ext cx="11215440" cy="18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893880" y="2595600"/>
            <a:ext cx="3611160" cy="29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86120" y="2595600"/>
            <a:ext cx="3611160" cy="29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8478000" y="2595600"/>
            <a:ext cx="3611160" cy="29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893880" y="5826240"/>
            <a:ext cx="3611160" cy="29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4686120" y="5826240"/>
            <a:ext cx="3611160" cy="29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8478000" y="5826240"/>
            <a:ext cx="3611160" cy="29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B491A02-4A53-4EC2-8112-BA38FA5464FF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40B8B9-E1F9-4731-B6B2-0B6BC8919E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93880" y="519120"/>
            <a:ext cx="11215440" cy="18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93880" y="2595600"/>
            <a:ext cx="5473080" cy="29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640920" y="2595600"/>
            <a:ext cx="5473080" cy="29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93880" y="5826240"/>
            <a:ext cx="5473080" cy="29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640920" y="5826240"/>
            <a:ext cx="5473080" cy="29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D9FC0-8165-49C9-A2A1-7EA5605D3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893880" y="519120"/>
            <a:ext cx="11215440" cy="18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893880" y="2595600"/>
            <a:ext cx="11215440" cy="61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8F33E7-9E17-4DEA-8329-D0DD047B1F6C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893880" y="519120"/>
            <a:ext cx="11215440" cy="18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893880" y="2595600"/>
            <a:ext cx="11215440" cy="61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204588-0E6B-4C7C-B114-D509DB18E547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93880" y="519120"/>
            <a:ext cx="11215440" cy="18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893880" y="2595600"/>
            <a:ext cx="5473080" cy="61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6640920" y="2595600"/>
            <a:ext cx="5473080" cy="61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5177CD-EF69-4C7F-93F5-AA24C9BC3903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893880" y="519120"/>
            <a:ext cx="11215440" cy="18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487F18-F1A4-4607-A0A7-6CB8EC74A30E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893880" y="519120"/>
            <a:ext cx="11215440" cy="87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9F1E47-824B-4F3B-8886-05D08EEDEC28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893880" y="519120"/>
            <a:ext cx="11215440" cy="18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893880" y="2595600"/>
            <a:ext cx="5473080" cy="29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6640920" y="2595600"/>
            <a:ext cx="5473080" cy="61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893880" y="5826240"/>
            <a:ext cx="5473080" cy="29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275712-D404-4906-898B-D0F92D4C9348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893880" y="519120"/>
            <a:ext cx="11215440" cy="18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893880" y="2595600"/>
            <a:ext cx="5473080" cy="61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6640920" y="2595600"/>
            <a:ext cx="5473080" cy="29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6640920" y="5826240"/>
            <a:ext cx="5473080" cy="29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B1C925-6541-4585-B4D1-D543851A90F2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893880" y="519120"/>
            <a:ext cx="11215440" cy="18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893880" y="2595600"/>
            <a:ext cx="5473080" cy="29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6640920" y="2595600"/>
            <a:ext cx="5473080" cy="29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893880" y="5826240"/>
            <a:ext cx="11215440" cy="29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1E9C6B-DE02-4EEF-AC7F-FFC36D87E04D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93880" y="519120"/>
            <a:ext cx="11215440" cy="18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893880" y="2595600"/>
            <a:ext cx="11215440" cy="29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893880" y="5826240"/>
            <a:ext cx="11215440" cy="29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74C8A3-1A86-42E2-A3D9-CBC58EDC888F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893880" y="519120"/>
            <a:ext cx="11215440" cy="18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93880" y="2595600"/>
            <a:ext cx="5473080" cy="29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6640920" y="2595600"/>
            <a:ext cx="5473080" cy="29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893880" y="5826240"/>
            <a:ext cx="5473080" cy="29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6640920" y="5826240"/>
            <a:ext cx="5473080" cy="29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894CDF-6086-4FDC-B522-46F0B1326D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93880" y="519120"/>
            <a:ext cx="11215440" cy="18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93880" y="2595600"/>
            <a:ext cx="3611160" cy="29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86120" y="2595600"/>
            <a:ext cx="3611160" cy="29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478000" y="2595600"/>
            <a:ext cx="3611160" cy="29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93880" y="5826240"/>
            <a:ext cx="3611160" cy="29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686120" y="5826240"/>
            <a:ext cx="3611160" cy="29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478000" y="5826240"/>
            <a:ext cx="3611160" cy="29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D4FAD-7966-432E-900C-4B3D569AE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893880" y="519120"/>
            <a:ext cx="11215440" cy="18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893880" y="2595600"/>
            <a:ext cx="3611160" cy="29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86120" y="2595600"/>
            <a:ext cx="3611160" cy="29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8478000" y="2595600"/>
            <a:ext cx="3611160" cy="29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893880" y="5826240"/>
            <a:ext cx="3611160" cy="29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4686120" y="5826240"/>
            <a:ext cx="3611160" cy="29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8478000" y="5826240"/>
            <a:ext cx="3611160" cy="29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9E3C3E-AAA6-4743-9DCD-F7912EEE68A2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893880" y="519120"/>
            <a:ext cx="11215440" cy="18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893880" y="2595600"/>
            <a:ext cx="11215440" cy="61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893880" y="519120"/>
            <a:ext cx="11215440" cy="18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893880" y="2595600"/>
            <a:ext cx="11215440" cy="61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893880" y="519120"/>
            <a:ext cx="11215440" cy="18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893880" y="2595600"/>
            <a:ext cx="5473080" cy="61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6640920" y="2595600"/>
            <a:ext cx="5473080" cy="61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893880" y="519120"/>
            <a:ext cx="11215440" cy="18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893880" y="519120"/>
            <a:ext cx="11215440" cy="87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893880" y="519120"/>
            <a:ext cx="11215440" cy="18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893880" y="2595600"/>
            <a:ext cx="5473080" cy="29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6640920" y="2595600"/>
            <a:ext cx="5473080" cy="61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893880" y="5826240"/>
            <a:ext cx="5473080" cy="29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893880" y="519120"/>
            <a:ext cx="11215440" cy="18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893880" y="2595600"/>
            <a:ext cx="5473080" cy="61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640920" y="2595600"/>
            <a:ext cx="5473080" cy="29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640920" y="5826240"/>
            <a:ext cx="5473080" cy="29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893880" y="519120"/>
            <a:ext cx="11215440" cy="18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893880" y="2595600"/>
            <a:ext cx="5473080" cy="29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6640920" y="2595600"/>
            <a:ext cx="5473080" cy="29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893880" y="5826240"/>
            <a:ext cx="11215440" cy="29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93880" y="519120"/>
            <a:ext cx="11215440" cy="18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893880" y="2595600"/>
            <a:ext cx="11215440" cy="29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893880" y="5826240"/>
            <a:ext cx="11215440" cy="29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893880" y="519120"/>
            <a:ext cx="11215440" cy="18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893880" y="2595600"/>
            <a:ext cx="5473080" cy="29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6640920" y="2595600"/>
            <a:ext cx="5473080" cy="29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893880" y="5826240"/>
            <a:ext cx="5473080" cy="29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6640920" y="5826240"/>
            <a:ext cx="5473080" cy="29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893880" y="519120"/>
            <a:ext cx="11215440" cy="18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893880" y="2595600"/>
            <a:ext cx="3611160" cy="29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86120" y="2595600"/>
            <a:ext cx="3611160" cy="29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8478000" y="2595600"/>
            <a:ext cx="3611160" cy="29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893880" y="5826240"/>
            <a:ext cx="3611160" cy="29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4686120" y="5826240"/>
            <a:ext cx="3611160" cy="29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8478000" y="5826240"/>
            <a:ext cx="3611160" cy="29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893880" y="519120"/>
            <a:ext cx="11215440" cy="18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subTitle"/>
          </p:nvPr>
        </p:nvSpPr>
        <p:spPr>
          <a:xfrm>
            <a:off x="893880" y="2595600"/>
            <a:ext cx="11215440" cy="61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893880" y="519120"/>
            <a:ext cx="11215440" cy="18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893880" y="2595600"/>
            <a:ext cx="11215440" cy="61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893880" y="519120"/>
            <a:ext cx="11215440" cy="18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893880" y="2595600"/>
            <a:ext cx="5473080" cy="61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6640920" y="2595600"/>
            <a:ext cx="5473080" cy="61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893880" y="519120"/>
            <a:ext cx="11215440" cy="18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ubTitle"/>
          </p:nvPr>
        </p:nvSpPr>
        <p:spPr>
          <a:xfrm>
            <a:off x="893880" y="519120"/>
            <a:ext cx="11215440" cy="87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893880" y="519120"/>
            <a:ext cx="11215440" cy="18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893880" y="2595600"/>
            <a:ext cx="5473080" cy="29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6640920" y="2595600"/>
            <a:ext cx="5473080" cy="61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893880" y="5826240"/>
            <a:ext cx="5473080" cy="29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93880" y="519120"/>
            <a:ext cx="11215440" cy="18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893880" y="2595600"/>
            <a:ext cx="11215440" cy="61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893880" y="519120"/>
            <a:ext cx="11215440" cy="18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893880" y="2595600"/>
            <a:ext cx="5473080" cy="61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6640920" y="2595600"/>
            <a:ext cx="5473080" cy="29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6640920" y="5826240"/>
            <a:ext cx="5473080" cy="29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893880" y="519120"/>
            <a:ext cx="11215440" cy="18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893880" y="2595600"/>
            <a:ext cx="5473080" cy="29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6640920" y="2595600"/>
            <a:ext cx="5473080" cy="29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893880" y="5826240"/>
            <a:ext cx="11215440" cy="29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893880" y="519120"/>
            <a:ext cx="11215440" cy="18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893880" y="2595600"/>
            <a:ext cx="11215440" cy="29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893880" y="5826240"/>
            <a:ext cx="11215440" cy="29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893880" y="519120"/>
            <a:ext cx="11215440" cy="18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893880" y="2595600"/>
            <a:ext cx="5473080" cy="29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640920" y="2595600"/>
            <a:ext cx="5473080" cy="29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893880" y="5826240"/>
            <a:ext cx="5473080" cy="29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6640920" y="5826240"/>
            <a:ext cx="5473080" cy="29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893880" y="519120"/>
            <a:ext cx="11215440" cy="18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893880" y="2595600"/>
            <a:ext cx="3611160" cy="29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86120" y="2595600"/>
            <a:ext cx="3611160" cy="29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8478000" y="2595600"/>
            <a:ext cx="3611160" cy="29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893880" y="5826240"/>
            <a:ext cx="3611160" cy="29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6"/>
          <p:cNvSpPr>
            <a:spLocks noGrp="1"/>
          </p:cNvSpPr>
          <p:nvPr>
            <p:ph/>
          </p:nvPr>
        </p:nvSpPr>
        <p:spPr>
          <a:xfrm>
            <a:off x="4686120" y="5826240"/>
            <a:ext cx="3611160" cy="29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7"/>
          <p:cNvSpPr>
            <a:spLocks noGrp="1"/>
          </p:cNvSpPr>
          <p:nvPr>
            <p:ph/>
          </p:nvPr>
        </p:nvSpPr>
        <p:spPr>
          <a:xfrm>
            <a:off x="8478000" y="5826240"/>
            <a:ext cx="3611160" cy="29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893880" y="519120"/>
            <a:ext cx="11215440" cy="18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subTitle"/>
          </p:nvPr>
        </p:nvSpPr>
        <p:spPr>
          <a:xfrm>
            <a:off x="893880" y="2595600"/>
            <a:ext cx="11215440" cy="61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893880" y="519120"/>
            <a:ext cx="11215440" cy="18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893880" y="2595600"/>
            <a:ext cx="11215440" cy="61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893880" y="519120"/>
            <a:ext cx="11215440" cy="18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893880" y="2595600"/>
            <a:ext cx="5473080" cy="61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6640920" y="2595600"/>
            <a:ext cx="5473080" cy="61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893880" y="519120"/>
            <a:ext cx="11215440" cy="18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93880" y="519120"/>
            <a:ext cx="11215440" cy="18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93880" y="2595600"/>
            <a:ext cx="11215440" cy="61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ubTitle"/>
          </p:nvPr>
        </p:nvSpPr>
        <p:spPr>
          <a:xfrm>
            <a:off x="893880" y="519120"/>
            <a:ext cx="11215440" cy="87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893880" y="519120"/>
            <a:ext cx="11215440" cy="18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893880" y="2595600"/>
            <a:ext cx="5473080" cy="29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6640920" y="2595600"/>
            <a:ext cx="5473080" cy="61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893880" y="5826240"/>
            <a:ext cx="5473080" cy="29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893880" y="519120"/>
            <a:ext cx="11215440" cy="18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893880" y="2595600"/>
            <a:ext cx="5473080" cy="61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6640920" y="2595600"/>
            <a:ext cx="5473080" cy="29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640920" y="5826240"/>
            <a:ext cx="5473080" cy="29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893880" y="519120"/>
            <a:ext cx="11215440" cy="18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893880" y="2595600"/>
            <a:ext cx="5473080" cy="29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6640920" y="2595600"/>
            <a:ext cx="5473080" cy="29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893880" y="5826240"/>
            <a:ext cx="11215440" cy="29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893880" y="519120"/>
            <a:ext cx="11215440" cy="18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893880" y="2595600"/>
            <a:ext cx="11215440" cy="29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893880" y="5826240"/>
            <a:ext cx="11215440" cy="29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893880" y="519120"/>
            <a:ext cx="11215440" cy="18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893880" y="2595600"/>
            <a:ext cx="5473080" cy="29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6640920" y="2595600"/>
            <a:ext cx="5473080" cy="29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893880" y="5826240"/>
            <a:ext cx="5473080" cy="29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6640920" y="5826240"/>
            <a:ext cx="5473080" cy="29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893880" y="519120"/>
            <a:ext cx="11215440" cy="18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893880" y="2595600"/>
            <a:ext cx="3611160" cy="29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86120" y="2595600"/>
            <a:ext cx="3611160" cy="29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8478000" y="2595600"/>
            <a:ext cx="3611160" cy="29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893880" y="5826240"/>
            <a:ext cx="3611160" cy="29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6"/>
          <p:cNvSpPr>
            <a:spLocks noGrp="1"/>
          </p:cNvSpPr>
          <p:nvPr>
            <p:ph/>
          </p:nvPr>
        </p:nvSpPr>
        <p:spPr>
          <a:xfrm>
            <a:off x="4686120" y="5826240"/>
            <a:ext cx="3611160" cy="29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7"/>
          <p:cNvSpPr>
            <a:spLocks noGrp="1"/>
          </p:cNvSpPr>
          <p:nvPr>
            <p:ph/>
          </p:nvPr>
        </p:nvSpPr>
        <p:spPr>
          <a:xfrm>
            <a:off x="8478000" y="5826240"/>
            <a:ext cx="3611160" cy="29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93880" y="519120"/>
            <a:ext cx="11215440" cy="18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93880" y="2595600"/>
            <a:ext cx="5473080" cy="61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40920" y="2595600"/>
            <a:ext cx="5473080" cy="61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93880" y="519120"/>
            <a:ext cx="11215440" cy="18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893880" y="519120"/>
            <a:ext cx="11215440" cy="87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93880" y="519120"/>
            <a:ext cx="11215440" cy="18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93880" y="2595600"/>
            <a:ext cx="5473080" cy="29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640920" y="2595600"/>
            <a:ext cx="5473080" cy="61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893880" y="5826240"/>
            <a:ext cx="5473080" cy="29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93880" y="519120"/>
            <a:ext cx="11215440" cy="18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93880" y="2595600"/>
            <a:ext cx="11215440" cy="61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5A386-0172-4866-8FFC-57B5758E7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93880" y="519120"/>
            <a:ext cx="11215440" cy="18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93880" y="2595600"/>
            <a:ext cx="5473080" cy="61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640920" y="2595600"/>
            <a:ext cx="5473080" cy="29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640920" y="5826240"/>
            <a:ext cx="5473080" cy="29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93880" y="519120"/>
            <a:ext cx="11215440" cy="18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93880" y="2595600"/>
            <a:ext cx="5473080" cy="29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640920" y="2595600"/>
            <a:ext cx="5473080" cy="29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93880" y="5826240"/>
            <a:ext cx="11215440" cy="29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93880" y="519120"/>
            <a:ext cx="11215440" cy="18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93880" y="2595600"/>
            <a:ext cx="11215440" cy="29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893880" y="5826240"/>
            <a:ext cx="11215440" cy="29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93880" y="519120"/>
            <a:ext cx="11215440" cy="18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93880" y="2595600"/>
            <a:ext cx="5473080" cy="29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640920" y="2595600"/>
            <a:ext cx="5473080" cy="29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93880" y="5826240"/>
            <a:ext cx="5473080" cy="29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640920" y="5826240"/>
            <a:ext cx="5473080" cy="29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93880" y="519120"/>
            <a:ext cx="11215440" cy="18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93880" y="2595600"/>
            <a:ext cx="3611160" cy="29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86120" y="2595600"/>
            <a:ext cx="3611160" cy="29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478000" y="2595600"/>
            <a:ext cx="3611160" cy="29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893880" y="5826240"/>
            <a:ext cx="3611160" cy="29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4686120" y="5826240"/>
            <a:ext cx="3611160" cy="29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8478000" y="5826240"/>
            <a:ext cx="3611160" cy="29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5BA2E6-F763-40FB-BD29-FB0E3418F07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93880" y="519120"/>
            <a:ext cx="11215440" cy="18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893880" y="2595600"/>
            <a:ext cx="11215440" cy="61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801803-C602-4043-BD57-FFD08D728AA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93880" y="519120"/>
            <a:ext cx="11215440" cy="18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93880" y="2595600"/>
            <a:ext cx="11215440" cy="61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117E7C-4598-4041-AC95-0EC3EB5DFDD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93880" y="519120"/>
            <a:ext cx="11215440" cy="18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893880" y="2595600"/>
            <a:ext cx="5473080" cy="61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6640920" y="2595600"/>
            <a:ext cx="5473080" cy="61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FF72B0-699B-48E0-9A1F-642502424C7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93880" y="519120"/>
            <a:ext cx="11215440" cy="18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C47F6B-19E4-4D7D-BBC9-7810994FD44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93880" y="519120"/>
            <a:ext cx="11215440" cy="18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93880" y="2595600"/>
            <a:ext cx="11215440" cy="61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B4E9A-659C-484F-BCB2-3ECE5B49F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893880" y="519120"/>
            <a:ext cx="11215440" cy="87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A63679-6EC2-48FC-9876-6FAEBAD7911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93880" y="519120"/>
            <a:ext cx="11215440" cy="18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93880" y="2595600"/>
            <a:ext cx="5473080" cy="29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6640920" y="2595600"/>
            <a:ext cx="5473080" cy="61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893880" y="5826240"/>
            <a:ext cx="5473080" cy="29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8650F7-16DF-4854-98B1-31530EC91A4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93880" y="519120"/>
            <a:ext cx="11215440" cy="18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93880" y="2595600"/>
            <a:ext cx="5473080" cy="61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640920" y="2595600"/>
            <a:ext cx="5473080" cy="29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640920" y="5826240"/>
            <a:ext cx="5473080" cy="29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55EE5D-900F-4A3E-876C-7BEB4E6F2E3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93880" y="519120"/>
            <a:ext cx="11215440" cy="18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93880" y="2595600"/>
            <a:ext cx="5473080" cy="29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640920" y="2595600"/>
            <a:ext cx="5473080" cy="29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893880" y="5826240"/>
            <a:ext cx="11215440" cy="29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2406C9-83EE-4211-95C6-9C248FE3AFB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93880" y="519120"/>
            <a:ext cx="11215440" cy="18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93880" y="2595600"/>
            <a:ext cx="11215440" cy="29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893880" y="5826240"/>
            <a:ext cx="11215440" cy="29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C73107-1E97-4BA4-813C-7FF85AE9B25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93880" y="519120"/>
            <a:ext cx="11215440" cy="18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93880" y="2595600"/>
            <a:ext cx="5473080" cy="29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6640920" y="2595600"/>
            <a:ext cx="5473080" cy="29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893880" y="5826240"/>
            <a:ext cx="5473080" cy="29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6640920" y="5826240"/>
            <a:ext cx="5473080" cy="29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C509F8-8321-4084-88DD-0B1AC8C5669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93880" y="519120"/>
            <a:ext cx="11215440" cy="18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93880" y="2595600"/>
            <a:ext cx="3611160" cy="29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86120" y="2595600"/>
            <a:ext cx="3611160" cy="29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478000" y="2595600"/>
            <a:ext cx="3611160" cy="29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893880" y="5826240"/>
            <a:ext cx="3611160" cy="29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4686120" y="5826240"/>
            <a:ext cx="3611160" cy="29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8478000" y="5826240"/>
            <a:ext cx="3611160" cy="29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29EE9E-8710-45D6-963A-2652E4C7BD69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FE2CFA-150E-4420-B053-B4B3FD790CBA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93880" y="519120"/>
            <a:ext cx="11215440" cy="18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893880" y="2595600"/>
            <a:ext cx="11215440" cy="61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4DB86B-F522-4EA7-82B5-DEA2C7620697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93880" y="519120"/>
            <a:ext cx="11215440" cy="18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93880" y="2595600"/>
            <a:ext cx="11215440" cy="61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166AAD-04AF-4B80-A7D8-CBC30E3EFD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93880" y="519120"/>
            <a:ext cx="11215440" cy="18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93880" y="2595600"/>
            <a:ext cx="5473080" cy="61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640920" y="2595600"/>
            <a:ext cx="5473080" cy="61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AE801-FADD-4F6D-A53D-B47A34838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93880" y="519120"/>
            <a:ext cx="11215440" cy="18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93880" y="2595600"/>
            <a:ext cx="5473080" cy="61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6640920" y="2595600"/>
            <a:ext cx="5473080" cy="61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C682C9-2EF0-4700-B59A-2E7C3319B08E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93880" y="519120"/>
            <a:ext cx="11215440" cy="18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F2FD82-0CA9-44AA-B4F2-B24D90C2E05F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893880" y="519120"/>
            <a:ext cx="11215440" cy="87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1192AA-941F-46A9-88D5-DA6CD614D18E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93880" y="519120"/>
            <a:ext cx="11215440" cy="18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93880" y="2595600"/>
            <a:ext cx="5473080" cy="29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6640920" y="2595600"/>
            <a:ext cx="5473080" cy="61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893880" y="5826240"/>
            <a:ext cx="5473080" cy="29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CA3CB2-1F68-452C-943C-C4590CD49005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93880" y="519120"/>
            <a:ext cx="11215440" cy="18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93880" y="2595600"/>
            <a:ext cx="5473080" cy="61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6640920" y="2595600"/>
            <a:ext cx="5473080" cy="29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640920" y="5826240"/>
            <a:ext cx="5473080" cy="29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D316AC-BCF9-4660-9AE7-36B5386E0F51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93880" y="519120"/>
            <a:ext cx="11215440" cy="18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93880" y="2595600"/>
            <a:ext cx="5473080" cy="29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640920" y="2595600"/>
            <a:ext cx="5473080" cy="29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893880" y="5826240"/>
            <a:ext cx="11215440" cy="29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878405-68FE-4D4B-8B32-BBCB0805EF87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93880" y="519120"/>
            <a:ext cx="11215440" cy="18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93880" y="2595600"/>
            <a:ext cx="11215440" cy="29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893880" y="5826240"/>
            <a:ext cx="11215440" cy="29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729A7F-6EEC-4D20-9160-868EC6BF2778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93880" y="519120"/>
            <a:ext cx="11215440" cy="18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93880" y="2595600"/>
            <a:ext cx="5473080" cy="29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6640920" y="2595600"/>
            <a:ext cx="5473080" cy="29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893880" y="5826240"/>
            <a:ext cx="5473080" cy="29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6640920" y="5826240"/>
            <a:ext cx="5473080" cy="29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95014C-779E-41C7-95A7-F4226E8A0122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93880" y="519120"/>
            <a:ext cx="11215440" cy="18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93880" y="2595600"/>
            <a:ext cx="3611160" cy="29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86120" y="2595600"/>
            <a:ext cx="3611160" cy="29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8478000" y="2595600"/>
            <a:ext cx="3611160" cy="29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893880" y="5826240"/>
            <a:ext cx="3611160" cy="29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4686120" y="5826240"/>
            <a:ext cx="3611160" cy="29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8478000" y="5826240"/>
            <a:ext cx="3611160" cy="29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3F3C0B-EDE4-4756-971C-243C461ECB7A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93880" y="519120"/>
            <a:ext cx="11215440" cy="18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8C0E9-5175-4AAC-AAC6-DA8A60090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93880" y="519120"/>
            <a:ext cx="11215440" cy="18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893880" y="2595600"/>
            <a:ext cx="11215440" cy="61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93880" y="519120"/>
            <a:ext cx="11215440" cy="18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93880" y="2595600"/>
            <a:ext cx="11215440" cy="61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93880" y="519120"/>
            <a:ext cx="11215440" cy="18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93880" y="2595600"/>
            <a:ext cx="5473080" cy="61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6640920" y="2595600"/>
            <a:ext cx="5473080" cy="61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93880" y="519120"/>
            <a:ext cx="11215440" cy="18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893880" y="519120"/>
            <a:ext cx="11215440" cy="87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93880" y="519120"/>
            <a:ext cx="11215440" cy="18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93880" y="2595600"/>
            <a:ext cx="5473080" cy="29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640920" y="2595600"/>
            <a:ext cx="5473080" cy="61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893880" y="5826240"/>
            <a:ext cx="5473080" cy="29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93880" y="519120"/>
            <a:ext cx="11215440" cy="18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93880" y="2595600"/>
            <a:ext cx="5473080" cy="61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640920" y="2595600"/>
            <a:ext cx="5473080" cy="29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640920" y="5826240"/>
            <a:ext cx="5473080" cy="29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93880" y="519120"/>
            <a:ext cx="11215440" cy="18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93880" y="2595600"/>
            <a:ext cx="5473080" cy="29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6640920" y="2595600"/>
            <a:ext cx="5473080" cy="29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893880" y="5826240"/>
            <a:ext cx="11215440" cy="29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93880" y="519120"/>
            <a:ext cx="11215440" cy="18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93880" y="2595600"/>
            <a:ext cx="11215440" cy="29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893880" y="5826240"/>
            <a:ext cx="11215440" cy="29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93880" y="519120"/>
            <a:ext cx="11215440" cy="18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93880" y="2595600"/>
            <a:ext cx="5473080" cy="29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640920" y="2595600"/>
            <a:ext cx="5473080" cy="29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893880" y="5826240"/>
            <a:ext cx="5473080" cy="29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6640920" y="5826240"/>
            <a:ext cx="5473080" cy="29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93880" y="519120"/>
            <a:ext cx="11215440" cy="87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0A0A7-8465-49C6-8FB9-510AE9245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93880" y="519120"/>
            <a:ext cx="11215440" cy="18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93880" y="2595600"/>
            <a:ext cx="3611160" cy="29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86120" y="2595600"/>
            <a:ext cx="3611160" cy="29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8478000" y="2595600"/>
            <a:ext cx="3611160" cy="29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893880" y="5826240"/>
            <a:ext cx="3611160" cy="29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4686120" y="5826240"/>
            <a:ext cx="3611160" cy="29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8478000" y="5826240"/>
            <a:ext cx="3611160" cy="29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14FFC-5F69-4C4F-A451-9585337EDE1D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93880" y="519120"/>
            <a:ext cx="11215440" cy="18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893880" y="2595600"/>
            <a:ext cx="11215440" cy="61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C5559-7DCB-4B5F-8BD9-9B69292ADF36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93880" y="519120"/>
            <a:ext cx="11215440" cy="18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93880" y="2595600"/>
            <a:ext cx="11215440" cy="61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AFDFE-6060-4257-9AD0-D9249B11F276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93880" y="519120"/>
            <a:ext cx="11215440" cy="18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93880" y="2595600"/>
            <a:ext cx="5473080" cy="61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6640920" y="2595600"/>
            <a:ext cx="5473080" cy="61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3AE69-0BD4-488B-9A39-DB9B15C22474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93880" y="519120"/>
            <a:ext cx="11215440" cy="18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DF592-BD85-4F1F-A878-D3C09744AE08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893880" y="519120"/>
            <a:ext cx="11215440" cy="87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E953B-7957-4CC5-8615-C021C4F2F795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93880" y="519120"/>
            <a:ext cx="11215440" cy="18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893880" y="2595600"/>
            <a:ext cx="5473080" cy="29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6640920" y="2595600"/>
            <a:ext cx="5473080" cy="61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893880" y="5826240"/>
            <a:ext cx="5473080" cy="29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1A37C-072B-4C44-B76D-D25449E7D8FF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93880" y="519120"/>
            <a:ext cx="11215440" cy="18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893880" y="2595600"/>
            <a:ext cx="5473080" cy="61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6640920" y="2595600"/>
            <a:ext cx="5473080" cy="29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640920" y="5826240"/>
            <a:ext cx="5473080" cy="29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A6CDE-9252-467B-A81B-B2D5BDBA20DC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93880" y="519120"/>
            <a:ext cx="11215440" cy="18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93880" y="2595600"/>
            <a:ext cx="5473080" cy="29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6640920" y="2595600"/>
            <a:ext cx="5473080" cy="29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893880" y="5826240"/>
            <a:ext cx="11215440" cy="29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CDD0B-D28C-4961-A2DA-15A5A7AA8D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93880" y="519120"/>
            <a:ext cx="11215440" cy="18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93880" y="2595600"/>
            <a:ext cx="5473080" cy="29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640920" y="2595600"/>
            <a:ext cx="5473080" cy="61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93880" y="5826240"/>
            <a:ext cx="5473080" cy="29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A8FA1-57D6-4BDE-A119-BD24DE5EE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93880" y="519120"/>
            <a:ext cx="11215440" cy="18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893880" y="2595600"/>
            <a:ext cx="11215440" cy="29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893880" y="5826240"/>
            <a:ext cx="11215440" cy="29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28FCE-ED0C-439C-974C-0FA5E4762E93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93880" y="519120"/>
            <a:ext cx="11215440" cy="18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93880" y="2595600"/>
            <a:ext cx="5473080" cy="29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6640920" y="2595600"/>
            <a:ext cx="5473080" cy="29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893880" y="5826240"/>
            <a:ext cx="5473080" cy="29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6640920" y="5826240"/>
            <a:ext cx="5473080" cy="29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56C2F-D0F7-40F4-B23F-1AA85C091EE8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93880" y="519120"/>
            <a:ext cx="11215440" cy="18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893880" y="2595600"/>
            <a:ext cx="3611160" cy="29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86120" y="2595600"/>
            <a:ext cx="3611160" cy="29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8478000" y="2595600"/>
            <a:ext cx="3611160" cy="29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893880" y="5826240"/>
            <a:ext cx="3611160" cy="29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4686120" y="5826240"/>
            <a:ext cx="3611160" cy="29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8478000" y="5826240"/>
            <a:ext cx="3611160" cy="29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3303D-7EFB-4D6A-8775-00254E77B13A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01396C9-0BBE-40DC-8999-B461D0947C64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93880" y="519120"/>
            <a:ext cx="11215440" cy="18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893880" y="2595600"/>
            <a:ext cx="11215440" cy="61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1581403-6479-4554-BC99-CCDB21E68E28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93880" y="519120"/>
            <a:ext cx="11215440" cy="18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93880" y="2595600"/>
            <a:ext cx="11215440" cy="61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351987F-2E25-4379-A35E-E896639955CD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93880" y="519120"/>
            <a:ext cx="11215440" cy="18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893880" y="2595600"/>
            <a:ext cx="5473080" cy="61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6640920" y="2595600"/>
            <a:ext cx="5473080" cy="61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251EA8C-60CC-4597-BB02-3FE9454CA61C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93880" y="519120"/>
            <a:ext cx="11215440" cy="18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EEBD484-701A-4E3B-A7A5-B4B61FA1EA72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893880" y="519120"/>
            <a:ext cx="11215440" cy="87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739F97E-C18B-45F0-9D27-F9220E9BBF48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93880" y="519120"/>
            <a:ext cx="11215440" cy="18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893880" y="2595600"/>
            <a:ext cx="5473080" cy="29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6640920" y="2595600"/>
            <a:ext cx="5473080" cy="61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893880" y="5826240"/>
            <a:ext cx="5473080" cy="29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8762D5C-8A43-4C45-9B36-1FF7200440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93880" y="519120"/>
            <a:ext cx="11215440" cy="18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93880" y="2595600"/>
            <a:ext cx="5473080" cy="61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640920" y="2595600"/>
            <a:ext cx="5473080" cy="29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640920" y="5826240"/>
            <a:ext cx="5473080" cy="29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E7A83-11CA-4BCA-B25B-5A59FA1F7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93880" y="519120"/>
            <a:ext cx="11215440" cy="18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893880" y="2595600"/>
            <a:ext cx="5473080" cy="61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6640920" y="2595600"/>
            <a:ext cx="5473080" cy="29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640920" y="5826240"/>
            <a:ext cx="5473080" cy="29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FA6871C-0324-4662-A17D-DBF17A9C0A4D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93880" y="519120"/>
            <a:ext cx="11215440" cy="18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893880" y="2595600"/>
            <a:ext cx="5473080" cy="29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6640920" y="2595600"/>
            <a:ext cx="5473080" cy="29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893880" y="5826240"/>
            <a:ext cx="11215440" cy="29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93E2119-5874-4ADD-BF50-9DFC5B2F3D5F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93880" y="519120"/>
            <a:ext cx="11215440" cy="18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893880" y="2595600"/>
            <a:ext cx="11215440" cy="29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893880" y="5826240"/>
            <a:ext cx="11215440" cy="29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2954226-6340-408A-933C-37DF9A50FF2F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93880" y="519120"/>
            <a:ext cx="11215440" cy="18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893880" y="2595600"/>
            <a:ext cx="5473080" cy="29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6640920" y="2595600"/>
            <a:ext cx="5473080" cy="29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893880" y="5826240"/>
            <a:ext cx="5473080" cy="29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6640920" y="5826240"/>
            <a:ext cx="5473080" cy="29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4E25F72-2454-4C48-A40A-18E2A5273BFC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93880" y="519120"/>
            <a:ext cx="11215440" cy="18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893880" y="2595600"/>
            <a:ext cx="3611160" cy="29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86120" y="2595600"/>
            <a:ext cx="3611160" cy="29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8478000" y="2595600"/>
            <a:ext cx="3611160" cy="29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893880" y="5826240"/>
            <a:ext cx="3611160" cy="29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4686120" y="5826240"/>
            <a:ext cx="3611160" cy="29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8478000" y="5826240"/>
            <a:ext cx="3611160" cy="29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BC0D7DB-A8BE-4707-AB69-BC6CDCEBD0CD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93880" y="519120"/>
            <a:ext cx="11215440" cy="18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893880" y="2595600"/>
            <a:ext cx="11215440" cy="61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93880" y="519120"/>
            <a:ext cx="11215440" cy="18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893880" y="2595600"/>
            <a:ext cx="11215440" cy="61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93880" y="519120"/>
            <a:ext cx="11215440" cy="18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893880" y="2595600"/>
            <a:ext cx="5473080" cy="61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6640920" y="2595600"/>
            <a:ext cx="5473080" cy="61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93880" y="519120"/>
            <a:ext cx="11215440" cy="18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93880" y="519120"/>
            <a:ext cx="11215440" cy="18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93880" y="2595600"/>
            <a:ext cx="5473080" cy="29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640920" y="2595600"/>
            <a:ext cx="5473080" cy="29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93880" y="5826240"/>
            <a:ext cx="11215440" cy="29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3BE7F-623E-46FA-881F-603815488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893880" y="519120"/>
            <a:ext cx="11215440" cy="87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893880" y="519120"/>
            <a:ext cx="11215440" cy="18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893880" y="2595600"/>
            <a:ext cx="5473080" cy="29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6640920" y="2595600"/>
            <a:ext cx="5473080" cy="61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893880" y="5826240"/>
            <a:ext cx="5473080" cy="29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893880" y="519120"/>
            <a:ext cx="11215440" cy="18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893880" y="2595600"/>
            <a:ext cx="5473080" cy="61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6640920" y="2595600"/>
            <a:ext cx="5473080" cy="29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640920" y="5826240"/>
            <a:ext cx="5473080" cy="29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93880" y="519120"/>
            <a:ext cx="11215440" cy="18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893880" y="2595600"/>
            <a:ext cx="5473080" cy="29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640920" y="2595600"/>
            <a:ext cx="5473080" cy="29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893880" y="5826240"/>
            <a:ext cx="11215440" cy="29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893880" y="519120"/>
            <a:ext cx="11215440" cy="18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893880" y="2595600"/>
            <a:ext cx="11215440" cy="29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893880" y="5826240"/>
            <a:ext cx="11215440" cy="29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93880" y="519120"/>
            <a:ext cx="11215440" cy="18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893880" y="2595600"/>
            <a:ext cx="5473080" cy="29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6640920" y="2595600"/>
            <a:ext cx="5473080" cy="29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893880" y="5826240"/>
            <a:ext cx="5473080" cy="29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6640920" y="5826240"/>
            <a:ext cx="5473080" cy="29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93880" y="519120"/>
            <a:ext cx="11215440" cy="18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893880" y="2595600"/>
            <a:ext cx="3611160" cy="29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86120" y="2595600"/>
            <a:ext cx="3611160" cy="29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8478000" y="2595600"/>
            <a:ext cx="3611160" cy="29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893880" y="5826240"/>
            <a:ext cx="3611160" cy="29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4686120" y="5826240"/>
            <a:ext cx="3611160" cy="29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8478000" y="5826240"/>
            <a:ext cx="3611160" cy="29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0CC20B6-29C0-4FA0-B84A-41BDF531F702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93880" y="519120"/>
            <a:ext cx="11215440" cy="18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893880" y="2595600"/>
            <a:ext cx="11215440" cy="61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027F1F9-FE6A-4826-BD3B-5A44C1D73E20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93880" y="519120"/>
            <a:ext cx="11215440" cy="18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893880" y="2595600"/>
            <a:ext cx="11215440" cy="61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514BA51-9028-473C-86D3-938E63806F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0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8.png"/><Relationship Id="rId3" Type="http://schemas.openxmlformats.org/officeDocument/2006/relationships/image" Target="../media/image3.wmf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9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0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1.png"/><Relationship Id="rId3" Type="http://schemas.openxmlformats.org/officeDocument/2006/relationships/image" Target="../media/image3.wmf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893880" y="2595600"/>
            <a:ext cx="11215440" cy="61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93520" y="9036000"/>
            <a:ext cx="292572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1298520"/>
                <a:tab algn="l" pos="2597040"/>
                <a:tab algn="l" pos="3895560"/>
                <a:tab algn="l" pos="5194440"/>
                <a:tab algn="l" pos="6492960"/>
                <a:tab algn="l" pos="7791480"/>
                <a:tab algn="l" pos="9090000"/>
                <a:tab algn="l" pos="10388520"/>
              </a:tabLst>
              <a:defRPr b="0" lang="it-I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298520"/>
                <a:tab algn="l" pos="2597040"/>
                <a:tab algn="l" pos="3895560"/>
                <a:tab algn="l" pos="5194440"/>
                <a:tab algn="l" pos="6492960"/>
                <a:tab algn="l" pos="7791480"/>
                <a:tab algn="l" pos="9090000"/>
                <a:tab algn="l" pos="10388520"/>
              </a:tabLst>
            </a:pPr>
            <a:fld id="{286DAAD8-2589-4EE0-BEE6-FD4D49051F60}" type="datetime">
              <a:rPr b="0" lang="it-IT" sz="1200" spc="-1" strike="noStrike">
                <a:solidFill>
                  <a:srgbClr val="898989"/>
                </a:solidFill>
                <a:latin typeface="Times New Roman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4307040" y="9036000"/>
            <a:ext cx="438912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1298520"/>
                <a:tab algn="l" pos="2597040"/>
                <a:tab algn="l" pos="3895560"/>
                <a:tab algn="l" pos="5194440"/>
                <a:tab algn="l" pos="6492960"/>
                <a:tab algn="l" pos="7791480"/>
                <a:tab algn="l" pos="9090000"/>
                <a:tab algn="l" pos="1038852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9183240" y="9036000"/>
            <a:ext cx="292572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1298520"/>
                <a:tab algn="l" pos="2597040"/>
                <a:tab algn="l" pos="3895560"/>
                <a:tab algn="l" pos="5194440"/>
                <a:tab algn="l" pos="6492960"/>
                <a:tab algn="l" pos="7791480"/>
                <a:tab algn="l" pos="9090000"/>
                <a:tab algn="l" pos="1038852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298520"/>
                <a:tab algn="l" pos="2597040"/>
                <a:tab algn="l" pos="3895560"/>
                <a:tab algn="l" pos="5194440"/>
                <a:tab algn="l" pos="6492960"/>
                <a:tab algn="l" pos="7791480"/>
                <a:tab algn="l" pos="9090000"/>
                <a:tab algn="l" pos="10388520"/>
              </a:tabLst>
            </a:pPr>
            <a:fld id="{1A1F9F60-F432-4956-AB58-370E440E9B5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893880" y="519120"/>
            <a:ext cx="11215440" cy="18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Immagine 6" descr=""/>
          <p:cNvPicPr/>
          <p:nvPr/>
        </p:nvPicPr>
        <p:blipFill>
          <a:blip r:embed="rId2"/>
          <a:stretch/>
        </p:blipFill>
        <p:spPr>
          <a:xfrm>
            <a:off x="0" y="0"/>
            <a:ext cx="13003200" cy="9752040"/>
          </a:xfrm>
          <a:prstGeom prst="rect">
            <a:avLst/>
          </a:prstGeom>
          <a:ln w="0">
            <a:noFill/>
          </a:ln>
        </p:spPr>
      </p:pic>
      <p:pic>
        <p:nvPicPr>
          <p:cNvPr id="373" name="Immagine 7" descr=""/>
          <p:cNvPicPr/>
          <p:nvPr/>
        </p:nvPicPr>
        <p:blipFill>
          <a:blip r:embed="rId3"/>
          <a:stretch/>
        </p:blipFill>
        <p:spPr>
          <a:xfrm>
            <a:off x="9183600" y="3948120"/>
            <a:ext cx="1003320" cy="960480"/>
          </a:xfrm>
          <a:prstGeom prst="rect">
            <a:avLst/>
          </a:prstGeom>
          <a:ln w="0">
            <a:noFill/>
          </a:ln>
        </p:spPr>
      </p:pic>
      <p:sp>
        <p:nvSpPr>
          <p:cNvPr id="374" name="PlaceHolder 1"/>
          <p:cNvSpPr>
            <a:spLocks noGrp="1"/>
          </p:cNvSpPr>
          <p:nvPr>
            <p:ph type="body"/>
          </p:nvPr>
        </p:nvSpPr>
        <p:spPr>
          <a:xfrm>
            <a:off x="893880" y="2595600"/>
            <a:ext cx="11215440" cy="61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title"/>
          </p:nvPr>
        </p:nvSpPr>
        <p:spPr>
          <a:xfrm>
            <a:off x="893880" y="519120"/>
            <a:ext cx="11215440" cy="18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 type="sldNum" idx="9"/>
          </p:nvPr>
        </p:nvSpPr>
        <p:spPr>
          <a:xfrm>
            <a:off x="9183240" y="9183600"/>
            <a:ext cx="292572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1298520"/>
                <a:tab algn="l" pos="2597040"/>
                <a:tab algn="l" pos="3895560"/>
                <a:tab algn="l" pos="5194440"/>
                <a:tab algn="l" pos="6492960"/>
                <a:tab algn="l" pos="7791480"/>
                <a:tab algn="l" pos="9090000"/>
                <a:tab algn="l" pos="10388520"/>
              </a:tabLst>
              <a:defRPr b="1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298520"/>
                <a:tab algn="l" pos="2597040"/>
                <a:tab algn="l" pos="3895560"/>
                <a:tab algn="l" pos="5194440"/>
                <a:tab algn="l" pos="6492960"/>
                <a:tab algn="l" pos="7791480"/>
                <a:tab algn="l" pos="9090000"/>
                <a:tab algn="l" pos="10388520"/>
              </a:tabLst>
            </a:pPr>
            <a:fld id="{4BAF1381-16B5-4460-B19F-AE22CCB44025}" type="slidenum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body"/>
          </p:nvPr>
        </p:nvSpPr>
        <p:spPr>
          <a:xfrm>
            <a:off x="893880" y="2595600"/>
            <a:ext cx="11215440" cy="61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893880" y="519120"/>
            <a:ext cx="11215440" cy="18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body"/>
          </p:nvPr>
        </p:nvSpPr>
        <p:spPr>
          <a:xfrm>
            <a:off x="893880" y="2595600"/>
            <a:ext cx="11215440" cy="61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title"/>
          </p:nvPr>
        </p:nvSpPr>
        <p:spPr>
          <a:xfrm>
            <a:off x="893880" y="519120"/>
            <a:ext cx="11215440" cy="18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body"/>
          </p:nvPr>
        </p:nvSpPr>
        <p:spPr>
          <a:xfrm>
            <a:off x="893880" y="2595600"/>
            <a:ext cx="11215440" cy="61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title"/>
          </p:nvPr>
        </p:nvSpPr>
        <p:spPr>
          <a:xfrm>
            <a:off x="893880" y="519120"/>
            <a:ext cx="11215440" cy="18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2"/>
          <a:srcRect l="13961" t="545" r="860" b="891"/>
          <a:stretch/>
        </p:blipFill>
        <p:spPr>
          <a:xfrm>
            <a:off x="0" y="0"/>
            <a:ext cx="13003200" cy="9748800"/>
          </a:xfrm>
          <a:prstGeom prst="rect">
            <a:avLst/>
          </a:prstGeom>
          <a:ln w="0">
            <a:noFill/>
          </a:ln>
        </p:spPr>
      </p:pic>
      <p:pic>
        <p:nvPicPr>
          <p:cNvPr id="42" name="Immagine 7" descr=""/>
          <p:cNvPicPr/>
          <p:nvPr/>
        </p:nvPicPr>
        <p:blipFill>
          <a:blip r:embed="rId3"/>
          <a:stretch/>
        </p:blipFill>
        <p:spPr>
          <a:xfrm>
            <a:off x="7754760" y="1305000"/>
            <a:ext cx="3457800" cy="7128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893880" y="2595600"/>
            <a:ext cx="11215440" cy="61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893880" y="519120"/>
            <a:ext cx="11215440" cy="18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ttangolo 6"/>
          <p:cNvSpPr/>
          <p:nvPr/>
        </p:nvSpPr>
        <p:spPr>
          <a:xfrm>
            <a:off x="0" y="9183600"/>
            <a:ext cx="13003200" cy="565200"/>
          </a:xfrm>
          <a:prstGeom prst="rect">
            <a:avLst/>
          </a:prstGeom>
          <a:solidFill>
            <a:srgbClr val="8fc7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298520"/>
                <a:tab algn="l" pos="2597040"/>
                <a:tab algn="l" pos="3895560"/>
                <a:tab algn="l" pos="5194440"/>
                <a:tab algn="l" pos="6492960"/>
                <a:tab algn="l" pos="7791480"/>
                <a:tab algn="l" pos="9090000"/>
                <a:tab algn="l" pos="1038852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6" descr=""/>
          <p:cNvPicPr/>
          <p:nvPr/>
        </p:nvPicPr>
        <p:blipFill>
          <a:blip r:embed="rId2"/>
          <a:srcRect l="0" t="0" r="17042" b="0"/>
          <a:stretch/>
        </p:blipFill>
        <p:spPr>
          <a:xfrm>
            <a:off x="0" y="214200"/>
            <a:ext cx="10387080" cy="576360"/>
          </a:xfrm>
          <a:prstGeom prst="rect">
            <a:avLst/>
          </a:prstGeom>
          <a:ln w="0">
            <a:noFill/>
          </a:ln>
        </p:spPr>
      </p:pic>
      <p:pic>
        <p:nvPicPr>
          <p:cNvPr id="83" name="GRUPPO MONDADORI.pdf" descr=""/>
          <p:cNvPicPr/>
          <p:nvPr/>
        </p:nvPicPr>
        <p:blipFill>
          <a:blip r:embed="rId3"/>
          <a:stretch/>
        </p:blipFill>
        <p:spPr>
          <a:xfrm>
            <a:off x="838080" y="9342360"/>
            <a:ext cx="2159280" cy="258840"/>
          </a:xfrm>
          <a:prstGeom prst="rect">
            <a:avLst/>
          </a:prstGeom>
          <a:ln w="0">
            <a:noFill/>
          </a:ln>
        </p:spPr>
      </p:pic>
      <p:pic>
        <p:nvPicPr>
          <p:cNvPr id="84" name="Immagine 9" descr=""/>
          <p:cNvPicPr/>
          <p:nvPr/>
        </p:nvPicPr>
        <p:blipFill>
          <a:blip r:embed="rId4"/>
          <a:stretch/>
        </p:blipFill>
        <p:spPr>
          <a:xfrm>
            <a:off x="10031400" y="23760"/>
            <a:ext cx="2770200" cy="132876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body"/>
          </p:nvPr>
        </p:nvSpPr>
        <p:spPr>
          <a:xfrm>
            <a:off x="893880" y="2595600"/>
            <a:ext cx="11215440" cy="61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893880" y="519120"/>
            <a:ext cx="11215440" cy="18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4"/>
          </p:nvPr>
        </p:nvSpPr>
        <p:spPr>
          <a:xfrm>
            <a:off x="9183240" y="9183600"/>
            <a:ext cx="292572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1298520"/>
                <a:tab algn="l" pos="2597040"/>
                <a:tab algn="l" pos="3895560"/>
                <a:tab algn="l" pos="5194440"/>
                <a:tab algn="l" pos="6492960"/>
                <a:tab algn="l" pos="7791480"/>
                <a:tab algn="l" pos="9090000"/>
                <a:tab algn="l" pos="10388520"/>
              </a:tabLst>
              <a:defRPr b="1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298520"/>
                <a:tab algn="l" pos="2597040"/>
                <a:tab algn="l" pos="3895560"/>
                <a:tab algn="l" pos="5194440"/>
                <a:tab algn="l" pos="6492960"/>
                <a:tab algn="l" pos="7791480"/>
                <a:tab algn="l" pos="9090000"/>
                <a:tab algn="l" pos="10388520"/>
              </a:tabLst>
            </a:pPr>
            <a:fld id="{7F640775-8878-4AE7-B56A-935B6D699E05}" type="slidenum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5" descr=""/>
          <p:cNvPicPr/>
          <p:nvPr/>
        </p:nvPicPr>
        <p:blipFill>
          <a:blip r:embed="rId2"/>
          <a:srcRect l="13961" t="545" r="860" b="891"/>
          <a:stretch/>
        </p:blipFill>
        <p:spPr>
          <a:xfrm>
            <a:off x="0" y="0"/>
            <a:ext cx="13003200" cy="9748800"/>
          </a:xfrm>
          <a:prstGeom prst="rect">
            <a:avLst/>
          </a:prstGeom>
          <a:ln w="0">
            <a:noFill/>
          </a:ln>
        </p:spPr>
      </p:pic>
      <p:pic>
        <p:nvPicPr>
          <p:cNvPr id="125" name="Immagine 7" descr=""/>
          <p:cNvPicPr/>
          <p:nvPr/>
        </p:nvPicPr>
        <p:blipFill>
          <a:blip r:embed="rId3"/>
          <a:stretch/>
        </p:blipFill>
        <p:spPr>
          <a:xfrm>
            <a:off x="9183600" y="4064040"/>
            <a:ext cx="920880" cy="88092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body"/>
          </p:nvPr>
        </p:nvSpPr>
        <p:spPr>
          <a:xfrm>
            <a:off x="893880" y="2595600"/>
            <a:ext cx="11215440" cy="61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title"/>
          </p:nvPr>
        </p:nvSpPr>
        <p:spPr>
          <a:xfrm>
            <a:off x="893880" y="519120"/>
            <a:ext cx="11215440" cy="18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5"/>
          </p:nvPr>
        </p:nvSpPr>
        <p:spPr>
          <a:xfrm>
            <a:off x="9183240" y="9183600"/>
            <a:ext cx="292572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1298520"/>
                <a:tab algn="l" pos="2597040"/>
                <a:tab algn="l" pos="3895560"/>
                <a:tab algn="l" pos="5194440"/>
                <a:tab algn="l" pos="6492960"/>
                <a:tab algn="l" pos="7791480"/>
                <a:tab algn="l" pos="9090000"/>
                <a:tab algn="l" pos="10388520"/>
              </a:tabLst>
              <a:defRPr b="1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298520"/>
                <a:tab algn="l" pos="2597040"/>
                <a:tab algn="l" pos="3895560"/>
                <a:tab algn="l" pos="5194440"/>
                <a:tab algn="l" pos="6492960"/>
                <a:tab algn="l" pos="7791480"/>
                <a:tab algn="l" pos="9090000"/>
                <a:tab algn="l" pos="10388520"/>
              </a:tabLst>
            </a:pPr>
            <a:fld id="{6FC80D59-F992-4FEC-BD0F-8BC02C873042}" type="slidenum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Immagine 6" descr=""/>
          <p:cNvPicPr/>
          <p:nvPr/>
        </p:nvPicPr>
        <p:blipFill>
          <a:blip r:embed="rId2"/>
          <a:stretch/>
        </p:blipFill>
        <p:spPr>
          <a:xfrm>
            <a:off x="0" y="0"/>
            <a:ext cx="13003200" cy="9734400"/>
          </a:xfrm>
          <a:prstGeom prst="rect">
            <a:avLst/>
          </a:prstGeom>
          <a:ln w="0">
            <a:noFill/>
          </a:ln>
        </p:spPr>
      </p:pic>
      <p:pic>
        <p:nvPicPr>
          <p:cNvPr id="166" name="Immagine 7" descr=""/>
          <p:cNvPicPr/>
          <p:nvPr/>
        </p:nvPicPr>
        <p:blipFill>
          <a:blip r:embed="rId3"/>
          <a:stretch/>
        </p:blipFill>
        <p:spPr>
          <a:xfrm>
            <a:off x="7754760" y="1305000"/>
            <a:ext cx="3457800" cy="712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893880" y="2595600"/>
            <a:ext cx="11215440" cy="61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893880" y="519120"/>
            <a:ext cx="11215440" cy="18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Immagine 6" descr=""/>
          <p:cNvPicPr/>
          <p:nvPr/>
        </p:nvPicPr>
        <p:blipFill>
          <a:blip r:embed="rId2"/>
          <a:stretch/>
        </p:blipFill>
        <p:spPr>
          <a:xfrm>
            <a:off x="0" y="9183600"/>
            <a:ext cx="13003200" cy="56196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6" descr=""/>
          <p:cNvPicPr/>
          <p:nvPr/>
        </p:nvPicPr>
        <p:blipFill>
          <a:blip r:embed="rId3"/>
          <a:srcRect l="0" t="0" r="17042" b="0"/>
          <a:stretch/>
        </p:blipFill>
        <p:spPr>
          <a:xfrm>
            <a:off x="0" y="214200"/>
            <a:ext cx="10387080" cy="576360"/>
          </a:xfrm>
          <a:prstGeom prst="rect">
            <a:avLst/>
          </a:prstGeom>
          <a:ln w="0">
            <a:noFill/>
          </a:ln>
        </p:spPr>
      </p:pic>
      <p:pic>
        <p:nvPicPr>
          <p:cNvPr id="207" name="GRUPPO MONDADORI.pdf" descr=""/>
          <p:cNvPicPr/>
          <p:nvPr/>
        </p:nvPicPr>
        <p:blipFill>
          <a:blip r:embed="rId4"/>
          <a:stretch/>
        </p:blipFill>
        <p:spPr>
          <a:xfrm>
            <a:off x="838080" y="9342360"/>
            <a:ext cx="2159280" cy="258840"/>
          </a:xfrm>
          <a:prstGeom prst="rect">
            <a:avLst/>
          </a:prstGeom>
          <a:ln w="0">
            <a:noFill/>
          </a:ln>
        </p:spPr>
      </p:pic>
      <p:pic>
        <p:nvPicPr>
          <p:cNvPr id="208" name="Immagine 9" descr=""/>
          <p:cNvPicPr/>
          <p:nvPr/>
        </p:nvPicPr>
        <p:blipFill>
          <a:blip r:embed="rId5"/>
          <a:stretch/>
        </p:blipFill>
        <p:spPr>
          <a:xfrm>
            <a:off x="10031400" y="23760"/>
            <a:ext cx="2770200" cy="1328760"/>
          </a:xfrm>
          <a:prstGeom prst="rect">
            <a:avLst/>
          </a:prstGeom>
          <a:ln w="0">
            <a:noFill/>
          </a:ln>
        </p:spPr>
      </p:pic>
      <p:sp>
        <p:nvSpPr>
          <p:cNvPr id="209" name="PlaceHolder 1"/>
          <p:cNvSpPr>
            <a:spLocks noGrp="1"/>
          </p:cNvSpPr>
          <p:nvPr>
            <p:ph type="body"/>
          </p:nvPr>
        </p:nvSpPr>
        <p:spPr>
          <a:xfrm>
            <a:off x="893880" y="2595600"/>
            <a:ext cx="11215440" cy="61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title"/>
          </p:nvPr>
        </p:nvSpPr>
        <p:spPr>
          <a:xfrm>
            <a:off x="893880" y="519120"/>
            <a:ext cx="11215440" cy="18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sldNum" idx="6"/>
          </p:nvPr>
        </p:nvSpPr>
        <p:spPr>
          <a:xfrm>
            <a:off x="9183240" y="9183600"/>
            <a:ext cx="292572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1298520"/>
                <a:tab algn="l" pos="2597040"/>
                <a:tab algn="l" pos="3895560"/>
                <a:tab algn="l" pos="5194440"/>
                <a:tab algn="l" pos="6492960"/>
                <a:tab algn="l" pos="7791480"/>
                <a:tab algn="l" pos="9090000"/>
                <a:tab algn="l" pos="10388520"/>
              </a:tabLst>
              <a:defRPr b="1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298520"/>
                <a:tab algn="l" pos="2597040"/>
                <a:tab algn="l" pos="3895560"/>
                <a:tab algn="l" pos="5194440"/>
                <a:tab algn="l" pos="6492960"/>
                <a:tab algn="l" pos="7791480"/>
                <a:tab algn="l" pos="9090000"/>
                <a:tab algn="l" pos="10388520"/>
              </a:tabLst>
            </a:pPr>
            <a:fld id="{13EF8D6C-AE04-41FD-BEB3-80B5BB04EA09}" type="slidenum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Immagine 6" descr=""/>
          <p:cNvPicPr/>
          <p:nvPr/>
        </p:nvPicPr>
        <p:blipFill>
          <a:blip r:embed="rId2"/>
          <a:stretch/>
        </p:blipFill>
        <p:spPr>
          <a:xfrm>
            <a:off x="0" y="0"/>
            <a:ext cx="13003200" cy="9752040"/>
          </a:xfrm>
          <a:prstGeom prst="rect">
            <a:avLst/>
          </a:prstGeom>
          <a:ln w="0">
            <a:noFill/>
          </a:ln>
        </p:spPr>
      </p:pic>
      <p:pic>
        <p:nvPicPr>
          <p:cNvPr id="249" name="Immagine 7" descr=""/>
          <p:cNvPicPr/>
          <p:nvPr/>
        </p:nvPicPr>
        <p:blipFill>
          <a:blip r:embed="rId3"/>
          <a:stretch/>
        </p:blipFill>
        <p:spPr>
          <a:xfrm>
            <a:off x="9183600" y="4064040"/>
            <a:ext cx="920880" cy="880920"/>
          </a:xfrm>
          <a:prstGeom prst="rect">
            <a:avLst/>
          </a:prstGeom>
          <a:ln w="0">
            <a:noFill/>
          </a:ln>
        </p:spPr>
      </p:pic>
      <p:sp>
        <p:nvSpPr>
          <p:cNvPr id="250" name="PlaceHolder 1"/>
          <p:cNvSpPr>
            <a:spLocks noGrp="1"/>
          </p:cNvSpPr>
          <p:nvPr>
            <p:ph type="body"/>
          </p:nvPr>
        </p:nvSpPr>
        <p:spPr>
          <a:xfrm>
            <a:off x="893880" y="2595600"/>
            <a:ext cx="11215440" cy="61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title"/>
          </p:nvPr>
        </p:nvSpPr>
        <p:spPr>
          <a:xfrm>
            <a:off x="893880" y="519120"/>
            <a:ext cx="11215440" cy="18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 type="sldNum" idx="7"/>
          </p:nvPr>
        </p:nvSpPr>
        <p:spPr>
          <a:xfrm>
            <a:off x="9183240" y="9183600"/>
            <a:ext cx="292572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1298520"/>
                <a:tab algn="l" pos="2597040"/>
                <a:tab algn="l" pos="3895560"/>
                <a:tab algn="l" pos="5194440"/>
                <a:tab algn="l" pos="6492960"/>
                <a:tab algn="l" pos="7791480"/>
                <a:tab algn="l" pos="9090000"/>
                <a:tab algn="l" pos="10388520"/>
              </a:tabLst>
              <a:defRPr b="1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298520"/>
                <a:tab algn="l" pos="2597040"/>
                <a:tab algn="l" pos="3895560"/>
                <a:tab algn="l" pos="5194440"/>
                <a:tab algn="l" pos="6492960"/>
                <a:tab algn="l" pos="7791480"/>
                <a:tab algn="l" pos="9090000"/>
                <a:tab algn="l" pos="10388520"/>
              </a:tabLst>
            </a:pPr>
            <a:fld id="{45694244-2668-4D00-8390-D13B377764D2}" type="slidenum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Immagine 6" descr=""/>
          <p:cNvPicPr/>
          <p:nvPr/>
        </p:nvPicPr>
        <p:blipFill>
          <a:blip r:embed="rId2"/>
          <a:stretch/>
        </p:blipFill>
        <p:spPr>
          <a:xfrm>
            <a:off x="0" y="0"/>
            <a:ext cx="13003200" cy="9752040"/>
          </a:xfrm>
          <a:prstGeom prst="rect">
            <a:avLst/>
          </a:prstGeom>
          <a:ln w="0">
            <a:noFill/>
          </a:ln>
        </p:spPr>
      </p:pic>
      <p:pic>
        <p:nvPicPr>
          <p:cNvPr id="290" name="Immagine 7" descr=""/>
          <p:cNvPicPr/>
          <p:nvPr/>
        </p:nvPicPr>
        <p:blipFill>
          <a:blip r:embed="rId3"/>
          <a:stretch/>
        </p:blipFill>
        <p:spPr>
          <a:xfrm>
            <a:off x="7754760" y="1305000"/>
            <a:ext cx="3457800" cy="712800"/>
          </a:xfrm>
          <a:prstGeom prst="rect">
            <a:avLst/>
          </a:prstGeom>
          <a:ln w="0">
            <a:noFill/>
          </a:ln>
        </p:spPr>
      </p:pic>
      <p:sp>
        <p:nvSpPr>
          <p:cNvPr id="291" name="PlaceHolder 1"/>
          <p:cNvSpPr>
            <a:spLocks noGrp="1"/>
          </p:cNvSpPr>
          <p:nvPr>
            <p:ph type="body"/>
          </p:nvPr>
        </p:nvSpPr>
        <p:spPr>
          <a:xfrm>
            <a:off x="893880" y="2595600"/>
            <a:ext cx="11215440" cy="61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title"/>
          </p:nvPr>
        </p:nvSpPr>
        <p:spPr>
          <a:xfrm>
            <a:off x="893880" y="519120"/>
            <a:ext cx="11215440" cy="18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Immagine 6" descr=""/>
          <p:cNvPicPr/>
          <p:nvPr/>
        </p:nvPicPr>
        <p:blipFill>
          <a:blip r:embed="rId2"/>
          <a:stretch/>
        </p:blipFill>
        <p:spPr>
          <a:xfrm>
            <a:off x="0" y="9191520"/>
            <a:ext cx="13003200" cy="55404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6" descr=""/>
          <p:cNvPicPr/>
          <p:nvPr/>
        </p:nvPicPr>
        <p:blipFill>
          <a:blip r:embed="rId3"/>
          <a:srcRect l="0" t="0" r="17042" b="0"/>
          <a:stretch/>
        </p:blipFill>
        <p:spPr>
          <a:xfrm>
            <a:off x="0" y="214200"/>
            <a:ext cx="10387080" cy="576360"/>
          </a:xfrm>
          <a:prstGeom prst="rect">
            <a:avLst/>
          </a:prstGeom>
          <a:ln w="0">
            <a:noFill/>
          </a:ln>
        </p:spPr>
      </p:pic>
      <p:pic>
        <p:nvPicPr>
          <p:cNvPr id="331" name="GRUPPO MONDADORI.pdf" descr=""/>
          <p:cNvPicPr/>
          <p:nvPr/>
        </p:nvPicPr>
        <p:blipFill>
          <a:blip r:embed="rId4"/>
          <a:stretch/>
        </p:blipFill>
        <p:spPr>
          <a:xfrm>
            <a:off x="838080" y="9342360"/>
            <a:ext cx="2159280" cy="258840"/>
          </a:xfrm>
          <a:prstGeom prst="rect">
            <a:avLst/>
          </a:prstGeom>
          <a:ln w="0">
            <a:noFill/>
          </a:ln>
        </p:spPr>
      </p:pic>
      <p:pic>
        <p:nvPicPr>
          <p:cNvPr id="332" name="Immagine 9" descr=""/>
          <p:cNvPicPr/>
          <p:nvPr/>
        </p:nvPicPr>
        <p:blipFill>
          <a:blip r:embed="rId5"/>
          <a:stretch/>
        </p:blipFill>
        <p:spPr>
          <a:xfrm>
            <a:off x="10031400" y="23760"/>
            <a:ext cx="2770200" cy="1328760"/>
          </a:xfrm>
          <a:prstGeom prst="rect">
            <a:avLst/>
          </a:prstGeom>
          <a:ln w="0">
            <a:noFill/>
          </a:ln>
        </p:spPr>
      </p:pic>
      <p:sp>
        <p:nvSpPr>
          <p:cNvPr id="333" name="PlaceHolder 1"/>
          <p:cNvSpPr>
            <a:spLocks noGrp="1"/>
          </p:cNvSpPr>
          <p:nvPr>
            <p:ph type="body"/>
          </p:nvPr>
        </p:nvSpPr>
        <p:spPr>
          <a:xfrm>
            <a:off x="893880" y="2595600"/>
            <a:ext cx="11215440" cy="61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title"/>
          </p:nvPr>
        </p:nvSpPr>
        <p:spPr>
          <a:xfrm>
            <a:off x="893880" y="519120"/>
            <a:ext cx="11215440" cy="18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 type="sldNum" idx="8"/>
          </p:nvPr>
        </p:nvSpPr>
        <p:spPr>
          <a:xfrm>
            <a:off x="9183240" y="9183600"/>
            <a:ext cx="292572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1298520"/>
                <a:tab algn="l" pos="2597040"/>
                <a:tab algn="l" pos="3895560"/>
                <a:tab algn="l" pos="5194440"/>
                <a:tab algn="l" pos="6492960"/>
                <a:tab algn="l" pos="7791480"/>
                <a:tab algn="l" pos="9090000"/>
                <a:tab algn="l" pos="10388520"/>
              </a:tabLst>
              <a:defRPr b="1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298520"/>
                <a:tab algn="l" pos="2597040"/>
                <a:tab algn="l" pos="3895560"/>
                <a:tab algn="l" pos="5194440"/>
                <a:tab algn="l" pos="6492960"/>
                <a:tab algn="l" pos="7791480"/>
                <a:tab algn="l" pos="9090000"/>
                <a:tab algn="l" pos="10388520"/>
              </a:tabLst>
            </a:pPr>
            <a:fld id="{9263BAD1-E979-4436-97C9-8A294CF59159}" type="slidenum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7802280" y="4034520"/>
            <a:ext cx="4762440" cy="6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it-IT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7802280" y="4686120"/>
            <a:ext cx="4762440" cy="48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2400" spc="-1" strike="noStrike">
              <a:solidFill>
                <a:srgbClr val="d81e2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893880" y="961200"/>
            <a:ext cx="1121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it-IT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893880" y="2595600"/>
            <a:ext cx="11215440" cy="61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7802280" y="4034520"/>
            <a:ext cx="4762440" cy="6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it-IT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subTitle"/>
          </p:nvPr>
        </p:nvSpPr>
        <p:spPr>
          <a:xfrm>
            <a:off x="7802280" y="4686120"/>
            <a:ext cx="4762440" cy="48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2400" spc="-1" strike="noStrike">
              <a:solidFill>
                <a:srgbClr val="d81e21"/>
              </a:solidFill>
              <a:latin typeface="Calibri"/>
            </a:endParaRPr>
          </a:p>
        </p:txBody>
      </p:sp>
      <p:sp>
        <p:nvSpPr>
          <p:cNvPr id="533" name="Segnaposto numero diapositiva 1"/>
          <p:cNvSpPr/>
          <p:nvPr/>
        </p:nvSpPr>
        <p:spPr>
          <a:xfrm>
            <a:off x="10077480" y="9183600"/>
            <a:ext cx="2925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1298520"/>
                <a:tab algn="l" pos="2597040"/>
                <a:tab algn="l" pos="3895560"/>
                <a:tab algn="l" pos="5194440"/>
                <a:tab algn="l" pos="6492960"/>
                <a:tab algn="l" pos="7791480"/>
                <a:tab algn="l" pos="9090000"/>
                <a:tab algn="l" pos="10388520"/>
              </a:tabLst>
            </a:pPr>
            <a:fld id="{583D5AA9-876E-43F0-9D49-17A94E4BB5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893880" y="961200"/>
            <a:ext cx="1121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it-IT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5" name=""/>
          <p:cNvSpPr txBox="1"/>
          <p:nvPr/>
        </p:nvSpPr>
        <p:spPr>
          <a:xfrm>
            <a:off x="893880" y="2595600"/>
            <a:ext cx="11215440" cy="61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Slide Number Placeholder 6"/>
          <p:cNvSpPr/>
          <p:nvPr/>
        </p:nvSpPr>
        <p:spPr>
          <a:xfrm>
            <a:off x="9183600" y="9183600"/>
            <a:ext cx="2925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1298520"/>
                <a:tab algn="l" pos="2597040"/>
                <a:tab algn="l" pos="3895560"/>
                <a:tab algn="l" pos="5194440"/>
                <a:tab algn="l" pos="6492960"/>
                <a:tab algn="l" pos="7791480"/>
                <a:tab algn="l" pos="9090000"/>
                <a:tab algn="l" pos="10388520"/>
              </a:tabLst>
            </a:pPr>
            <a:fld id="{BCD59380-876E-484C-9862-D37EC4BF2D51}" type="slidenum">
              <a:rPr b="1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7" name="CasellaDiTesto 7" descr=""/>
          <p:cNvPicPr/>
          <p:nvPr/>
        </p:nvPicPr>
        <p:blipFill>
          <a:blip r:embed="rId1"/>
          <a:stretch/>
        </p:blipFill>
        <p:spPr>
          <a:xfrm>
            <a:off x="2984400" y="9296280"/>
            <a:ext cx="8813880" cy="3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Slide Number Placeholder 6"/>
          <p:cNvSpPr/>
          <p:nvPr/>
        </p:nvSpPr>
        <p:spPr>
          <a:xfrm>
            <a:off x="9183600" y="9183600"/>
            <a:ext cx="2925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1298520"/>
                <a:tab algn="l" pos="2597040"/>
                <a:tab algn="l" pos="3895560"/>
                <a:tab algn="l" pos="5194440"/>
                <a:tab algn="l" pos="6492960"/>
                <a:tab algn="l" pos="7791480"/>
                <a:tab algn="l" pos="9090000"/>
                <a:tab algn="l" pos="10388520"/>
              </a:tabLst>
            </a:pPr>
            <a:fld id="{586CCFA3-400C-436B-923D-A97B65738726}" type="slidenum">
              <a:rPr b="1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9" name="CasellaDiTesto 7" descr=""/>
          <p:cNvPicPr/>
          <p:nvPr/>
        </p:nvPicPr>
        <p:blipFill>
          <a:blip r:embed="rId1"/>
          <a:stretch/>
        </p:blipFill>
        <p:spPr>
          <a:xfrm>
            <a:off x="2984400" y="9296280"/>
            <a:ext cx="8813880" cy="3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7802280" y="4034520"/>
            <a:ext cx="4762440" cy="6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it-IT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7802280" y="4686120"/>
            <a:ext cx="4762440" cy="48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2400" spc="-1" strike="noStrike">
              <a:solidFill>
                <a:srgbClr val="d81e21"/>
              </a:solidFill>
              <a:latin typeface="Calibri"/>
            </a:endParaRPr>
          </a:p>
        </p:txBody>
      </p:sp>
      <p:sp>
        <p:nvSpPr>
          <p:cNvPr id="542" name="Segnaposto numero diapositiva 1"/>
          <p:cNvSpPr/>
          <p:nvPr/>
        </p:nvSpPr>
        <p:spPr>
          <a:xfrm>
            <a:off x="10077480" y="9183600"/>
            <a:ext cx="2925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1298520"/>
                <a:tab algn="l" pos="2597040"/>
                <a:tab algn="l" pos="3895560"/>
                <a:tab algn="l" pos="5194440"/>
                <a:tab algn="l" pos="6492960"/>
                <a:tab algn="l" pos="7791480"/>
                <a:tab algn="l" pos="9090000"/>
                <a:tab algn="l" pos="10388520"/>
              </a:tabLst>
            </a:pPr>
            <a:fld id="{6017F7ED-85C9-4ADB-BAC5-052A331A6451}" type="slidenum">
              <a:rPr b="0" lang="en-US" sz="25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893880" y="961200"/>
            <a:ext cx="1121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it-IT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893880" y="2595600"/>
            <a:ext cx="11215440" cy="61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Segnaposto numero diapositiva 1"/>
          <p:cNvSpPr/>
          <p:nvPr/>
        </p:nvSpPr>
        <p:spPr>
          <a:xfrm>
            <a:off x="9183600" y="9183600"/>
            <a:ext cx="2925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1298520"/>
                <a:tab algn="l" pos="2597040"/>
                <a:tab algn="l" pos="3895560"/>
                <a:tab algn="l" pos="5194440"/>
                <a:tab algn="l" pos="6492960"/>
                <a:tab algn="l" pos="7791480"/>
                <a:tab algn="l" pos="9090000"/>
                <a:tab algn="l" pos="10388520"/>
              </a:tabLst>
            </a:pPr>
            <a:fld id="{A6E8A4B2-7816-4863-B3FB-923581C54CF7}" type="slidenum">
              <a:rPr b="1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Segnaposto numero diapositiva 1"/>
          <p:cNvSpPr/>
          <p:nvPr/>
        </p:nvSpPr>
        <p:spPr>
          <a:xfrm>
            <a:off x="9183600" y="9183600"/>
            <a:ext cx="2925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1298520"/>
                <a:tab algn="l" pos="2597040"/>
                <a:tab algn="l" pos="3895560"/>
                <a:tab algn="l" pos="5194440"/>
                <a:tab algn="l" pos="6492960"/>
                <a:tab algn="l" pos="7791480"/>
                <a:tab algn="l" pos="9090000"/>
                <a:tab algn="l" pos="10388520"/>
              </a:tabLst>
            </a:pPr>
            <a:fld id="{5CEFB6F3-9B8E-42D6-8DBB-BA9CF51AFA73}" type="slidenum">
              <a:rPr b="1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04T16:06:39Z</dcterms:created>
  <dc:creator>Microsoft Office User</dc:creator>
  <dc:description/>
  <dc:language>en-US</dc:language>
  <cp:lastModifiedBy>Utente di Microsoft Office</cp:lastModifiedBy>
  <dcterms:modified xsi:type="dcterms:W3CDTF">2019-12-18T08:46:34Z</dcterms:modified>
  <cp:revision>40</cp:revision>
  <dc:subject/>
  <dc:title>PowerPoint Presentation</dc:title>
</cp:coreProperties>
</file>