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0DF8-CCD6-4E37-B68A-215C20A43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66E3-F294-427B-8EE2-9EEABB9431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048E-CBA8-456A-85FE-E9C9987AF09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B907-2C50-40D0-B7B5-D1E7743FA56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7A65-B37E-4B3F-A185-4C5A7422ED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CD66-1640-4647-A11F-BE9776FA4F8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C6C5-B462-44E2-84FF-32ABE46DA1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F11E-AA25-48BB-998F-88AC7D905F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A232-6BE1-4B7B-92EB-132A59A45C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D0D2-7B54-406A-8147-715EA80B76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0F65-90B0-417C-B044-85E2AB5275B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5DECD-1E48-443B-8061-F12302C33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50F0-E6DD-4E2E-A0AC-CCFFF58D390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665E5-AA5B-4611-AC27-E815FE282DB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72DBAD-0ADD-4FC1-BE2F-CD3CC307905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D33D1-EE83-48F9-8C6D-0B040D25399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DC46A-3634-4A05-8E49-D309DB7BB9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04EF3-72AF-4595-B1CC-AAD4D22C98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1602E-EFA6-4B6E-AFA2-58D6611458C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7F1D9-E38D-4DE0-A6A3-81ABBE0BA03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95C71-F6C1-4A76-AEB6-585A1F90F1E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85920-46FC-4B6A-8887-83A6167526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5006F-A712-45B5-B543-0DF580E4F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97ED-820C-4F50-9645-C279BEFE47B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56A83-89D6-4852-B5C5-2C4E3DA917D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23706-738E-43F3-AD61-0FB3B3D12E9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4195B-565C-4A19-9500-F5100AA5F1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E16DA-51A1-4409-B7AE-BAF86CA4DE2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F70A4-1795-4D6B-B85E-BE72685742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77B92-37AC-4675-9355-874747C8E69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2B147-5751-49C1-8CF8-1C4C817582E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3B48C7-D1FE-4E6F-B350-70BDC966787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A0669-6287-46A8-9DB5-A995D5E729F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6BBBD-EA6D-46FC-A054-5876A00E3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76C67-66F0-4A96-B2B3-FF1FB7B1B2C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E6209-4740-44A8-BD9B-D99A61903FB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D6C69-39E2-4089-A3D5-E46CA99193F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CF3BA-3CE9-4BCA-B523-A6D6484ACF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664A-3BDA-4EB4-AC11-B1A112AD1A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26C9-4F91-49E2-8740-27DE2F3E7C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D9D5-DFA7-48C5-AE38-3460750D37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D1CA-A2E9-431C-96CA-9E608F2243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58B8-3852-41C6-8B73-5EC29A52BA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854C-78AF-4B9B-9A91-184E5EB92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79A8-0B57-49C6-9288-0B6BE2A71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4631-85F4-4F7F-A20F-7C729DAB18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A25F-192C-42BC-A621-787DD25B73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C4C2-3831-451A-B3F0-6A5663D261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E111-1730-4E65-B9C2-11CF4A6FA4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FAFC-DF06-42AF-BBEB-934C565BCF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5AC-DFFC-431B-84CF-38D5D46165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76E-6A92-4FBE-A0D9-74BAB5C4EF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260-A858-4B09-BD3B-7EDEF5F50A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76A-2183-4482-8930-3AD4020261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253-9A88-4C7C-A18B-E9BE892B7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0831-91E1-43E2-BAB1-0F80293AAA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FBF-B074-4693-8C8C-E380F69DC7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195-393B-4600-8D1D-F05FDF8559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165-5990-4798-B423-17CB72046D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DEB-051D-413E-B7E9-E21B456DC8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BF2-9D5E-45D7-9D3F-BE65B3E7BA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12E-65DD-434E-848C-27BE5DB41F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B55-1C51-45E8-BD4F-2B58F056E1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CB7DB-FEAB-4056-8E07-0EAC302553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A2E3C-4C01-4324-A208-E64EA13770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216DD-35FC-4D44-A074-E0F344092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48EB-5083-4D3A-9B23-5111FAC379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F922E-80A5-4EA9-A952-BF74726345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28C55-DCDA-4B33-958D-22214E096C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C0FE9-48DC-4B5C-9CE3-933280C0A8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47835-8783-4031-8E0C-C3240BE761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79D94-3893-4BE6-AEC3-5252617192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C08AA-62D6-4CE9-9FF4-37CD957AF8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E0627-B2CB-4ED1-8DA5-2803105ECE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0E40E-5FDE-4DE2-AFC3-036D16AB53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AB67C-D2D6-4066-A1CC-7416ACFAF5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1CA7D-F852-4671-B390-221165607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60D8-F9AB-4D5E-94A7-E146E48199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F442D-BDDF-4D0F-A58D-0448A26935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40BDD-143C-4C38-A4F4-944D8B3B39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F22F8-677E-48BA-A685-C8A9ED2AD6B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151DF-D13C-47BE-A0C2-D24DD80D81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AEA06-C829-4113-86A6-A6F187EA667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AAF30-8A16-4A1C-A6DC-78CB13323D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E982A-006D-4349-A240-96C8202547F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2D5E-11CE-4EA1-A19B-DEE7D2521E3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A0712-9F2E-4D62-B6FD-4254AF0659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BA245-DBB6-4A0D-BB3E-95B9FAECE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1CC2-79FD-4400-940A-32FBA7EFF1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E556F-673E-427D-860E-DDED6D68A23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B937-1773-4A8F-8748-DFCC543CEA0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12A9-1E36-4EE2-BEE5-B2EC0B5AA5D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46B-D5C8-4700-A8CA-73C8BEB719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482E-2AAB-444C-9B17-129C50E123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1C3B-A66A-47D3-AC60-CF4D7E9E45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6F39-9CB8-4009-A573-D9FAC02850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D229-FABD-4463-876E-6C1CABCF01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7466-FC91-4EDA-8D19-8985ACAB23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CC6F-48BD-4DFD-879A-58FD0E3C5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1F2E-7B04-4327-BDA7-75EC18BA6E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BC3B-5055-4CAA-AF0E-A601090F5D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9220-D216-4CD6-9037-CB32FA8DEF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9836-7AD8-4AEE-A569-0C6FEA18BC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33CE1-2F10-44A9-A80A-5CD57E65B2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61E4CC-B99C-47F7-BE6F-ECA7B283D06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24EF0-565B-4247-B02B-AD1C4A68040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5D8EB-CB9D-4E83-8A87-E5A6A01D71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430484-7954-4EC9-B5EB-4B0AE24CC1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DE5A2-5255-4E2C-8068-A4F56FAD2A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DE320-A872-49E7-8A59-BBA2D739D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397E-71B9-47ED-B2D9-4E09E529DCB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0CCF3-D0D1-4AE1-8ADA-2E072EF0EA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FAC94-CA6C-4AE8-A63D-1C8CC8F083C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5DD086-9823-43B9-8D01-368B6CA8247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BC975-77ED-4F97-8E24-45F33CDDA03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14AB6-4C40-4BD6-8B49-76D585F4288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0BD52-12BD-458C-8BD8-EF3F45FCA11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23A2A-CA42-4678-AD9C-11E8F31BAA0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32E42-9C45-47B4-9FED-EE0F8C5314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D1667-BF81-488C-9741-47B80DA975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62E40-2BBA-4B7B-BEA9-B48F7ACA6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1CF7-BD93-4009-8C75-67C9B7B0EF9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786960" y="977400"/>
            <a:ext cx="10464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7B738-AD67-4A5A-BD52-2E8477F4BE1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8FDBC-4A4A-4310-B560-C00CC0EE79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A0DBE-E112-4E53-A33E-43C1A7D80DE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26713-06F0-4F42-9EF0-F6C45BB3F44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8696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0B746-714C-43AD-8B7C-CCC4D346FED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14916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869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14916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26AFF-1EA5-4D18-B923-56AF615FFEC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254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86384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7869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254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86384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4246C-51FE-4B8A-9885-0C623E0F164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12E5-186F-42B5-B73F-9DD54B57FC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ACBE-5AE2-4C26-A292-111375C8283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78BB-0C3D-4334-BE59-8BBAFF770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97.xml"/><Relationship Id="rId27" Type="http://schemas.openxmlformats.org/officeDocument/2006/relationships/slideLayout" Target="../slideLayouts/slideLayout98.xml"/><Relationship Id="rId28" Type="http://schemas.openxmlformats.org/officeDocument/2006/relationships/slideLayout" Target="../slideLayouts/slideLayout99.xml"/><Relationship Id="rId29" Type="http://schemas.openxmlformats.org/officeDocument/2006/relationships/slideLayout" Target="../slideLayouts/slideLayout100.xml"/><Relationship Id="rId30" Type="http://schemas.openxmlformats.org/officeDocument/2006/relationships/slideLayout" Target="../slideLayouts/slideLayout101.xml"/><Relationship Id="rId31" Type="http://schemas.openxmlformats.org/officeDocument/2006/relationships/slideLayout" Target="../slideLayouts/slideLayout102.xml"/><Relationship Id="rId32" Type="http://schemas.openxmlformats.org/officeDocument/2006/relationships/slideLayout" Target="../slideLayouts/slideLayout103.xml"/><Relationship Id="rId33" Type="http://schemas.openxmlformats.org/officeDocument/2006/relationships/slideLayout" Target="../slideLayouts/slideLayout104.xml"/><Relationship Id="rId34" Type="http://schemas.openxmlformats.org/officeDocument/2006/relationships/slideLayout" Target="../slideLayouts/slideLayout105.xml"/><Relationship Id="rId35" Type="http://schemas.openxmlformats.org/officeDocument/2006/relationships/slideLayout" Target="../slideLayouts/slideLayout106.xml"/><Relationship Id="rId36" Type="http://schemas.openxmlformats.org/officeDocument/2006/relationships/slideLayout" Target="../slideLayouts/slideLayout107.xml"/><Relationship Id="rId3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266280" y="9360000"/>
            <a:ext cx="34596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3B9AE3-6295-4A88-ADB0-C309612052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Shape 5"/>
          <p:cNvSpPr/>
          <p:nvPr/>
        </p:nvSpPr>
        <p:spPr>
          <a:xfrm>
            <a:off x="-231840" y="776160"/>
            <a:ext cx="12025440" cy="0"/>
          </a:xfrm>
          <a:prstGeom prst="line">
            <a:avLst/>
          </a:prstGeom>
          <a:ln w="25560">
            <a:solidFill>
              <a:srgbClr val="ff2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" name="pasted-image.pdf" descr=""/>
          <p:cNvPicPr/>
          <p:nvPr/>
        </p:nvPicPr>
        <p:blipFill>
          <a:blip r:embed="rId9"/>
          <a:stretch/>
        </p:blipFill>
        <p:spPr>
          <a:xfrm>
            <a:off x="11968200" y="231840"/>
            <a:ext cx="60156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28E149-6D37-494B-A7B8-46C27A70800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vg&gt;.pdf" descr=""/>
          <p:cNvPicPr/>
          <p:nvPr/>
        </p:nvPicPr>
        <p:blipFill>
          <a:blip r:embed="rId2"/>
          <a:stretch/>
        </p:blipFill>
        <p:spPr>
          <a:xfrm>
            <a:off x="-2127240" y="-69840"/>
            <a:ext cx="15265440" cy="9909000"/>
          </a:xfrm>
          <a:prstGeom prst="rect">
            <a:avLst/>
          </a:prstGeom>
          <a:ln w="0">
            <a:noFill/>
          </a:ln>
        </p:spPr>
      </p:pic>
      <p:pic>
        <p:nvPicPr>
          <p:cNvPr id="430" name="M_Gruppo_Marchio_Compact_Pos_Rgb.png" descr=""/>
          <p:cNvPicPr/>
          <p:nvPr/>
        </p:nvPicPr>
        <p:blipFill>
          <a:blip r:embed="rId3"/>
          <a:stretch/>
        </p:blipFill>
        <p:spPr>
          <a:xfrm>
            <a:off x="9207360" y="3657600"/>
            <a:ext cx="1524240" cy="9907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1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79750B-0202-4A6F-B1D4-49495B4566C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vg&gt;.pdf" descr=""/>
          <p:cNvPicPr/>
          <p:nvPr/>
        </p:nvPicPr>
        <p:blipFill>
          <a:blip r:embed="rId2"/>
          <a:stretch/>
        </p:blipFill>
        <p:spPr>
          <a:xfrm>
            <a:off x="-2127240" y="-69840"/>
            <a:ext cx="15265440" cy="9909000"/>
          </a:xfrm>
          <a:prstGeom prst="rect">
            <a:avLst/>
          </a:prstGeom>
          <a:ln w="0">
            <a:noFill/>
          </a:ln>
        </p:spPr>
      </p:pic>
      <p:pic>
        <p:nvPicPr>
          <p:cNvPr id="42" name="pasted-image.pdf" descr=""/>
          <p:cNvPicPr/>
          <p:nvPr/>
        </p:nvPicPr>
        <p:blipFill>
          <a:blip r:embed="rId3"/>
          <a:stretch/>
        </p:blipFill>
        <p:spPr>
          <a:xfrm>
            <a:off x="7835760" y="1414440"/>
            <a:ext cx="3016440" cy="63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A39214-32B2-4CD0-BCEF-0CE8CA769EF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vg&gt;.pdf" descr=""/>
          <p:cNvPicPr/>
          <p:nvPr/>
        </p:nvPicPr>
        <p:blipFill>
          <a:blip r:embed="rId2"/>
          <a:stretch/>
        </p:blipFill>
        <p:spPr>
          <a:xfrm>
            <a:off x="-2133720" y="-73080"/>
            <a:ext cx="15265440" cy="9907560"/>
          </a:xfrm>
          <a:prstGeom prst="rect">
            <a:avLst/>
          </a:prstGeom>
          <a:ln w="0">
            <a:noFill/>
          </a:ln>
        </p:spPr>
      </p:pic>
      <p:pic>
        <p:nvPicPr>
          <p:cNvPr id="83" name="svg&gt;.pdf" descr=""/>
          <p:cNvPicPr/>
          <p:nvPr/>
        </p:nvPicPr>
        <p:blipFill>
          <a:blip r:embed="rId3"/>
          <a:srcRect l="0" t="0" r="1948" b="0"/>
          <a:stretch/>
        </p:blipFill>
        <p:spPr>
          <a:xfrm>
            <a:off x="-552600" y="5118120"/>
            <a:ext cx="7042320" cy="4788000"/>
          </a:xfrm>
          <a:prstGeom prst="rect">
            <a:avLst/>
          </a:prstGeom>
          <a:ln w="0">
            <a:noFill/>
          </a:ln>
        </p:spPr>
      </p:pic>
      <p:pic>
        <p:nvPicPr>
          <p:cNvPr id="84" name="pasted-image.pdf" descr=""/>
          <p:cNvPicPr/>
          <p:nvPr/>
        </p:nvPicPr>
        <p:blipFill>
          <a:blip r:embed="rId4"/>
          <a:stretch/>
        </p:blipFill>
        <p:spPr>
          <a:xfrm>
            <a:off x="7823160" y="1414440"/>
            <a:ext cx="3016440" cy="631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38F784-BB85-4B00-8B77-D7C383E4125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vg&gt;.pdf" descr=""/>
          <p:cNvPicPr/>
          <p:nvPr/>
        </p:nvPicPr>
        <p:blipFill>
          <a:blip r:embed="rId2"/>
          <a:stretch/>
        </p:blipFill>
        <p:spPr>
          <a:xfrm>
            <a:off x="-2133720" y="-77760"/>
            <a:ext cx="15265440" cy="9909000"/>
          </a:xfrm>
          <a:prstGeom prst="rect">
            <a:avLst/>
          </a:prstGeom>
          <a:ln w="0">
            <a:noFill/>
          </a:ln>
        </p:spPr>
      </p:pic>
      <p:pic>
        <p:nvPicPr>
          <p:cNvPr id="125" name="pasted-image.pdf" descr=""/>
          <p:cNvPicPr/>
          <p:nvPr/>
        </p:nvPicPr>
        <p:blipFill>
          <a:blip r:embed="rId3"/>
          <a:stretch/>
        </p:blipFill>
        <p:spPr>
          <a:xfrm>
            <a:off x="7823160" y="1414440"/>
            <a:ext cx="3016440" cy="631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3F4B23-B76A-4FA6-AAB9-FE4A5B2A6F4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svg&gt;.pdf" descr=""/>
          <p:cNvPicPr/>
          <p:nvPr/>
        </p:nvPicPr>
        <p:blipFill>
          <a:blip r:embed="rId2"/>
          <a:stretch/>
        </p:blipFill>
        <p:spPr>
          <a:xfrm>
            <a:off x="-2133720" y="-77760"/>
            <a:ext cx="15265440" cy="9909000"/>
          </a:xfrm>
          <a:prstGeom prst="rect">
            <a:avLst/>
          </a:prstGeom>
          <a:ln w="0">
            <a:noFill/>
          </a:ln>
        </p:spPr>
      </p:pic>
      <p:pic>
        <p:nvPicPr>
          <p:cNvPr id="166" name="pasted-image.pdf" descr=""/>
          <p:cNvPicPr/>
          <p:nvPr/>
        </p:nvPicPr>
        <p:blipFill>
          <a:blip r:embed="rId3"/>
          <a:stretch/>
        </p:blipFill>
        <p:spPr>
          <a:xfrm>
            <a:off x="7823160" y="1414440"/>
            <a:ext cx="3016440" cy="631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5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2D1BF6-E083-4F77-9DC1-89558B79C23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svg&gt;.pdf" descr=""/>
          <p:cNvPicPr/>
          <p:nvPr/>
        </p:nvPicPr>
        <p:blipFill>
          <a:blip r:embed="rId2"/>
          <a:stretch/>
        </p:blipFill>
        <p:spPr>
          <a:xfrm>
            <a:off x="-2133720" y="-76320"/>
            <a:ext cx="15240240" cy="9880560"/>
          </a:xfrm>
          <a:prstGeom prst="rect">
            <a:avLst/>
          </a:prstGeom>
          <a:ln w="0">
            <a:noFill/>
          </a:ln>
        </p:spPr>
      </p:pic>
      <p:pic>
        <p:nvPicPr>
          <p:cNvPr id="207" name="pasted-image.pdf" descr=""/>
          <p:cNvPicPr/>
          <p:nvPr/>
        </p:nvPicPr>
        <p:blipFill>
          <a:blip r:embed="rId3"/>
          <a:stretch/>
        </p:blipFill>
        <p:spPr>
          <a:xfrm>
            <a:off x="7835760" y="1414440"/>
            <a:ext cx="3016440" cy="631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6"/>
          </p:nvPr>
        </p:nvSpPr>
        <p:spPr>
          <a:xfrm>
            <a:off x="6324120" y="9258120"/>
            <a:ext cx="343080" cy="4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C6B26C-17D5-4984-A821-0D4F1BA1ECA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hart 78" descr=""/>
          <p:cNvPicPr/>
          <p:nvPr/>
        </p:nvPicPr>
        <p:blipFill>
          <a:blip r:embed="rId2"/>
          <a:stretch/>
        </p:blipFill>
        <p:spPr>
          <a:xfrm>
            <a:off x="7210440" y="2705040"/>
            <a:ext cx="4025880" cy="5010120"/>
          </a:xfrm>
          <a:prstGeom prst="rect">
            <a:avLst/>
          </a:prstGeom>
          <a:ln w="0">
            <a:noFill/>
          </a:ln>
        </p:spPr>
      </p:pic>
      <p:sp>
        <p:nvSpPr>
          <p:cNvPr id="248" name="Shape 82"/>
          <p:cNvSpPr/>
          <p:nvPr/>
        </p:nvSpPr>
        <p:spPr>
          <a:xfrm>
            <a:off x="-231840" y="776160"/>
            <a:ext cx="12025440" cy="0"/>
          </a:xfrm>
          <a:prstGeom prst="line">
            <a:avLst/>
          </a:prstGeom>
          <a:ln w="25560">
            <a:solidFill>
              <a:srgbClr val="ff2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9" name="pasted-image.pdf" descr=""/>
          <p:cNvPicPr/>
          <p:nvPr/>
        </p:nvPicPr>
        <p:blipFill>
          <a:blip r:embed="rId3"/>
          <a:stretch/>
        </p:blipFill>
        <p:spPr>
          <a:xfrm>
            <a:off x="11968200" y="231840"/>
            <a:ext cx="601560" cy="549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7"/>
          </p:nvPr>
        </p:nvSpPr>
        <p:spPr>
          <a:xfrm>
            <a:off x="12268080" y="9360000"/>
            <a:ext cx="34632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9CC1B3-BF8C-4EFD-AD87-BB2F494A68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Chart 90" descr=""/>
          <p:cNvPicPr/>
          <p:nvPr/>
        </p:nvPicPr>
        <p:blipFill>
          <a:blip r:embed="rId2"/>
          <a:stretch/>
        </p:blipFill>
        <p:spPr>
          <a:xfrm>
            <a:off x="738360" y="4756320"/>
            <a:ext cx="11555280" cy="4216320"/>
          </a:xfrm>
          <a:prstGeom prst="rect">
            <a:avLst/>
          </a:prstGeom>
          <a:ln w="0">
            <a:noFill/>
          </a:ln>
        </p:spPr>
      </p:pic>
      <p:sp>
        <p:nvSpPr>
          <p:cNvPr id="290" name="Shape 94"/>
          <p:cNvSpPr/>
          <p:nvPr/>
        </p:nvSpPr>
        <p:spPr>
          <a:xfrm>
            <a:off x="-231840" y="776160"/>
            <a:ext cx="12025440" cy="0"/>
          </a:xfrm>
          <a:prstGeom prst="line">
            <a:avLst/>
          </a:prstGeom>
          <a:ln w="25560">
            <a:solidFill>
              <a:srgbClr val="ff2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1" name="pasted-image.pdf" descr=""/>
          <p:cNvPicPr/>
          <p:nvPr/>
        </p:nvPicPr>
        <p:blipFill>
          <a:blip r:embed="rId3"/>
          <a:stretch/>
        </p:blipFill>
        <p:spPr>
          <a:xfrm>
            <a:off x="11968200" y="231840"/>
            <a:ext cx="601560" cy="549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8"/>
          </p:nvPr>
        </p:nvSpPr>
        <p:spPr>
          <a:xfrm>
            <a:off x="12268080" y="9360000"/>
            <a:ext cx="34632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7A0E4E-4908-43AE-BC03-1644A54A59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hape 102"/>
          <p:cNvSpPr/>
          <p:nvPr/>
        </p:nvSpPr>
        <p:spPr>
          <a:xfrm>
            <a:off x="5793480" y="346680"/>
            <a:ext cx="14083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d81f21"/>
                </a:solidFill>
                <a:latin typeface="Calibri"/>
                <a:ea typeface="Calibri"/>
              </a:rPr>
              <a:t>Colori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2" name="svg&gt;.pdf" descr=""/>
          <p:cNvPicPr/>
          <p:nvPr/>
        </p:nvPicPr>
        <p:blipFill>
          <a:blip r:embed="rId2"/>
          <a:stretch/>
        </p:blipFill>
        <p:spPr>
          <a:xfrm>
            <a:off x="514440" y="1473120"/>
            <a:ext cx="11963160" cy="7797960"/>
          </a:xfrm>
          <a:prstGeom prst="rect">
            <a:avLst/>
          </a:prstGeom>
          <a:ln w="0">
            <a:noFill/>
          </a:ln>
        </p:spPr>
      </p:pic>
      <p:sp>
        <p:nvSpPr>
          <p:cNvPr id="333" name="Shape 104"/>
          <p:cNvSpPr/>
          <p:nvPr/>
        </p:nvSpPr>
        <p:spPr>
          <a:xfrm>
            <a:off x="2743920" y="16268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NAL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Shape 105"/>
          <p:cNvSpPr/>
          <p:nvPr/>
        </p:nvSpPr>
        <p:spPr>
          <a:xfrm>
            <a:off x="8418600" y="1626840"/>
            <a:ext cx="1873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CCENTI SOF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5" name="svg&gt;.pdf" descr=""/>
          <p:cNvPicPr/>
          <p:nvPr/>
        </p:nvPicPr>
        <p:blipFill>
          <a:blip r:embed="rId3"/>
          <a:stretch/>
        </p:blipFill>
        <p:spPr>
          <a:xfrm>
            <a:off x="2171880" y="280656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36" name="svg&gt;.pdf" descr=""/>
          <p:cNvPicPr/>
          <p:nvPr/>
        </p:nvPicPr>
        <p:blipFill>
          <a:blip r:embed="rId4"/>
          <a:stretch/>
        </p:blipFill>
        <p:spPr>
          <a:xfrm>
            <a:off x="3454560" y="280656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37" name="svg&gt;.pdf" descr=""/>
          <p:cNvPicPr/>
          <p:nvPr/>
        </p:nvPicPr>
        <p:blipFill>
          <a:blip r:embed="rId5"/>
          <a:stretch/>
        </p:blipFill>
        <p:spPr>
          <a:xfrm>
            <a:off x="2171880" y="412740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38" name="svg&gt;.pdf" descr=""/>
          <p:cNvPicPr/>
          <p:nvPr/>
        </p:nvPicPr>
        <p:blipFill>
          <a:blip r:embed="rId6"/>
          <a:stretch/>
        </p:blipFill>
        <p:spPr>
          <a:xfrm>
            <a:off x="3454560" y="412740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39" name="svg&gt;.pdf" descr=""/>
          <p:cNvPicPr/>
          <p:nvPr/>
        </p:nvPicPr>
        <p:blipFill>
          <a:blip r:embed="rId7"/>
          <a:stretch/>
        </p:blipFill>
        <p:spPr>
          <a:xfrm>
            <a:off x="2171880" y="5423040"/>
            <a:ext cx="901440" cy="939600"/>
          </a:xfrm>
          <a:prstGeom prst="rect">
            <a:avLst/>
          </a:prstGeom>
          <a:ln w="0">
            <a:noFill/>
          </a:ln>
        </p:spPr>
      </p:pic>
      <p:pic>
        <p:nvPicPr>
          <p:cNvPr id="340" name="svg&gt;.pdf" descr=""/>
          <p:cNvPicPr/>
          <p:nvPr/>
        </p:nvPicPr>
        <p:blipFill>
          <a:blip r:embed="rId8"/>
          <a:stretch/>
        </p:blipFill>
        <p:spPr>
          <a:xfrm>
            <a:off x="3454560" y="5423040"/>
            <a:ext cx="901440" cy="939600"/>
          </a:xfrm>
          <a:prstGeom prst="rect">
            <a:avLst/>
          </a:prstGeom>
          <a:ln w="0">
            <a:noFill/>
          </a:ln>
        </p:spPr>
      </p:pic>
      <p:pic>
        <p:nvPicPr>
          <p:cNvPr id="341" name="svg&gt;.pdf" descr=""/>
          <p:cNvPicPr/>
          <p:nvPr/>
        </p:nvPicPr>
        <p:blipFill>
          <a:blip r:embed="rId9"/>
          <a:stretch/>
        </p:blipFill>
        <p:spPr>
          <a:xfrm>
            <a:off x="2171880" y="6730920"/>
            <a:ext cx="901440" cy="939960"/>
          </a:xfrm>
          <a:prstGeom prst="rect">
            <a:avLst/>
          </a:prstGeom>
          <a:ln w="0">
            <a:noFill/>
          </a:ln>
        </p:spPr>
      </p:pic>
      <p:pic>
        <p:nvPicPr>
          <p:cNvPr id="342" name="svg&gt;.pdf" descr=""/>
          <p:cNvPicPr/>
          <p:nvPr/>
        </p:nvPicPr>
        <p:blipFill>
          <a:blip r:embed="rId10"/>
          <a:stretch/>
        </p:blipFill>
        <p:spPr>
          <a:xfrm>
            <a:off x="3454560" y="6743880"/>
            <a:ext cx="901440" cy="939600"/>
          </a:xfrm>
          <a:prstGeom prst="rect">
            <a:avLst/>
          </a:prstGeom>
          <a:ln w="0">
            <a:noFill/>
          </a:ln>
        </p:spPr>
      </p:pic>
      <p:pic>
        <p:nvPicPr>
          <p:cNvPr id="343" name="svg&gt;.pdf" descr=""/>
          <p:cNvPicPr/>
          <p:nvPr/>
        </p:nvPicPr>
        <p:blipFill>
          <a:blip r:embed="rId11"/>
          <a:stretch/>
        </p:blipFill>
        <p:spPr>
          <a:xfrm>
            <a:off x="8267760" y="283212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4" name="svg&gt;.pdf" descr=""/>
          <p:cNvPicPr/>
          <p:nvPr/>
        </p:nvPicPr>
        <p:blipFill>
          <a:blip r:embed="rId12"/>
          <a:stretch/>
        </p:blipFill>
        <p:spPr>
          <a:xfrm>
            <a:off x="9550440" y="283212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5" name="svg&gt;.pdf" descr=""/>
          <p:cNvPicPr/>
          <p:nvPr/>
        </p:nvPicPr>
        <p:blipFill>
          <a:blip r:embed="rId13"/>
          <a:stretch/>
        </p:blipFill>
        <p:spPr>
          <a:xfrm>
            <a:off x="8267760" y="412740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6" name="svg&gt;.pdf" descr=""/>
          <p:cNvPicPr/>
          <p:nvPr/>
        </p:nvPicPr>
        <p:blipFill>
          <a:blip r:embed="rId14"/>
          <a:stretch/>
        </p:blipFill>
        <p:spPr>
          <a:xfrm>
            <a:off x="9550440" y="412740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7" name="svg&gt;.pdf" descr=""/>
          <p:cNvPicPr/>
          <p:nvPr/>
        </p:nvPicPr>
        <p:blipFill>
          <a:blip r:embed="rId15"/>
          <a:stretch/>
        </p:blipFill>
        <p:spPr>
          <a:xfrm>
            <a:off x="8267760" y="541008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48" name="svg&gt;.pdf" descr=""/>
          <p:cNvPicPr/>
          <p:nvPr/>
        </p:nvPicPr>
        <p:blipFill>
          <a:blip r:embed="rId16"/>
          <a:stretch/>
        </p:blipFill>
        <p:spPr>
          <a:xfrm>
            <a:off x="9550440" y="5423040"/>
            <a:ext cx="901800" cy="939600"/>
          </a:xfrm>
          <a:prstGeom prst="rect">
            <a:avLst/>
          </a:prstGeom>
          <a:ln w="0">
            <a:noFill/>
          </a:ln>
        </p:spPr>
      </p:pic>
      <p:pic>
        <p:nvPicPr>
          <p:cNvPr id="349" name="svg&gt;.pdf" descr=""/>
          <p:cNvPicPr/>
          <p:nvPr/>
        </p:nvPicPr>
        <p:blipFill>
          <a:blip r:embed="rId17"/>
          <a:stretch/>
        </p:blipFill>
        <p:spPr>
          <a:xfrm>
            <a:off x="8267760" y="6730920"/>
            <a:ext cx="901800" cy="939960"/>
          </a:xfrm>
          <a:prstGeom prst="rect">
            <a:avLst/>
          </a:prstGeom>
          <a:ln w="0">
            <a:noFill/>
          </a:ln>
        </p:spPr>
      </p:pic>
      <p:pic>
        <p:nvPicPr>
          <p:cNvPr id="350" name="svg&gt;.pdf" descr=""/>
          <p:cNvPicPr/>
          <p:nvPr/>
        </p:nvPicPr>
        <p:blipFill>
          <a:blip r:embed="rId18"/>
          <a:stretch/>
        </p:blipFill>
        <p:spPr>
          <a:xfrm>
            <a:off x="9550440" y="6730920"/>
            <a:ext cx="901800" cy="9399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50000"/>
              </a:lnSpc>
              <a:buSzPct val="100000"/>
              <a:buBlip>
                <a:blip r:embed="rId1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81240">
              <a:lnSpc>
                <a:spcPct val="150000"/>
              </a:lnSpc>
              <a:buSzPct val="100000"/>
              <a:buBlip>
                <a:blip r:embed="rId2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80880">
              <a:lnSpc>
                <a:spcPct val="150000"/>
              </a:lnSpc>
              <a:buSzPct val="100000"/>
              <a:buBlip>
                <a:blip r:embed="rId2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3880" indent="-380880">
              <a:lnSpc>
                <a:spcPct val="150000"/>
              </a:lnSpc>
              <a:buSzPct val="100000"/>
              <a:buBlip>
                <a:blip r:embed="rId2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05120" indent="-381240">
              <a:lnSpc>
                <a:spcPct val="150000"/>
              </a:lnSpc>
              <a:buSzPct val="100000"/>
              <a:buBlip>
                <a:blip r:embed="rId2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05120" indent="-381240">
              <a:lnSpc>
                <a:spcPct val="150000"/>
              </a:lnSpc>
              <a:buSzPct val="100000"/>
              <a:buBlip>
                <a:blip r:embed="rId2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05120" indent="-381240">
              <a:lnSpc>
                <a:spcPct val="150000"/>
              </a:lnSpc>
              <a:buSzPct val="100000"/>
              <a:buBlip>
                <a:blip r:embed="rId2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12268080" y="9360000"/>
            <a:ext cx="34632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DC1A6C-00C8-433C-B1EF-57AF48821B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6"/>
    <p:sldLayoutId id="2147483754" r:id="rId27"/>
    <p:sldLayoutId id="2147483755" r:id="rId28"/>
    <p:sldLayoutId id="2147483756" r:id="rId29"/>
    <p:sldLayoutId id="2147483757" r:id="rId30"/>
    <p:sldLayoutId id="2147483758" r:id="rId31"/>
    <p:sldLayoutId id="2147483759" r:id="rId32"/>
    <p:sldLayoutId id="2147483760" r:id="rId33"/>
    <p:sldLayoutId id="2147483761" r:id="rId34"/>
    <p:sldLayoutId id="2147483762" r:id="rId35"/>
    <p:sldLayoutId id="2147483763" r:id="rId36"/>
    <p:sldLayoutId id="2147483764" r:id="rId3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797960" y="4403880"/>
            <a:ext cx="48132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d81f21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149"/>
          <p:cNvSpPr/>
          <p:nvPr/>
        </p:nvSpPr>
        <p:spPr>
          <a:xfrm>
            <a:off x="7854840" y="6894720"/>
            <a:ext cx="15638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Nome Division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grate,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7797960" y="4444560"/>
            <a:ext cx="4813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797960" y="4444560"/>
            <a:ext cx="4813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d81f21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97960" y="4444560"/>
            <a:ext cx="4813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d81f21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hape 160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7960" y="3746520"/>
            <a:ext cx="48132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7960" y="4444560"/>
            <a:ext cx="4813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d81f21"/>
              </a:solidFill>
              <a:latin typeface="Calibri"/>
            </a:endParaRPr>
          </a:p>
        </p:txBody>
      </p:sp>
      <p:sp>
        <p:nvSpPr>
          <p:cNvPr id="482" name="Shape 163"/>
          <p:cNvSpPr/>
          <p:nvPr/>
        </p:nvSpPr>
        <p:spPr>
          <a:xfrm>
            <a:off x="7829280" y="2670480"/>
            <a:ext cx="11034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0 mese 0000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Shape 164"/>
          <p:cNvSpPr/>
          <p:nvPr/>
        </p:nvSpPr>
        <p:spPr>
          <a:xfrm>
            <a:off x="7854120" y="5601960"/>
            <a:ext cx="19188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- Nome Cognom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Titolo interven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 - Nome Cognom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Titolo interven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 - Nome Cognom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d81f21"/>
                </a:solidFill>
                <a:latin typeface="Calibri"/>
                <a:ea typeface="Calibri"/>
              </a:rPr>
              <a:t>Titolo interven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hape 166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8696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169"/>
          <p:cNvSpPr/>
          <p:nvPr/>
        </p:nvSpPr>
        <p:spPr>
          <a:xfrm>
            <a:off x="11905560" y="9360000"/>
            <a:ext cx="1068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723B77-338D-496A-8324-F1C44ABB34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8" name="GRUPPO MONDADORI.pdf" descr=""/>
          <p:cNvPicPr/>
          <p:nvPr/>
        </p:nvPicPr>
        <p:blipFill>
          <a:blip r:embed="rId1"/>
          <a:stretch/>
        </p:blipFill>
        <p:spPr>
          <a:xfrm>
            <a:off x="838080" y="9435960"/>
            <a:ext cx="2159280" cy="2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hape 172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92966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175"/>
          <p:cNvSpPr/>
          <p:nvPr/>
        </p:nvSpPr>
        <p:spPr>
          <a:xfrm>
            <a:off x="11907000" y="9360000"/>
            <a:ext cx="1068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A5AA58-8537-41E9-8E3E-39E4C65E46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3" name="GRUPPO MONDADORI.pdf" descr=""/>
          <p:cNvPicPr/>
          <p:nvPr/>
        </p:nvPicPr>
        <p:blipFill>
          <a:blip r:embed="rId1"/>
          <a:stretch/>
        </p:blipFill>
        <p:spPr>
          <a:xfrm>
            <a:off x="838080" y="9435960"/>
            <a:ext cx="2159280" cy="2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hape 178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5" name="GRUPPO MONDADORI.pdf" descr=""/>
          <p:cNvPicPr/>
          <p:nvPr/>
        </p:nvPicPr>
        <p:blipFill>
          <a:blip r:embed="rId1"/>
          <a:stretch/>
        </p:blipFill>
        <p:spPr>
          <a:xfrm>
            <a:off x="838080" y="9435960"/>
            <a:ext cx="2159280" cy="2588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86960" y="97740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87320" y="2018880"/>
            <a:ext cx="92966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182"/>
          <p:cNvSpPr/>
          <p:nvPr/>
        </p:nvSpPr>
        <p:spPr>
          <a:xfrm>
            <a:off x="11907000" y="9360000"/>
            <a:ext cx="1068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600A8C-05A8-4376-A637-D72740BA79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hape 184"/>
          <p:cNvSpPr/>
          <p:nvPr/>
        </p:nvSpPr>
        <p:spPr>
          <a:xfrm>
            <a:off x="-177840" y="9321840"/>
            <a:ext cx="14046120" cy="12700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0" name="GRUPPO MONDADORI.pdf" descr=""/>
          <p:cNvPicPr/>
          <p:nvPr/>
        </p:nvPicPr>
        <p:blipFill>
          <a:blip r:embed="rId1"/>
          <a:stretch/>
        </p:blipFill>
        <p:spPr>
          <a:xfrm>
            <a:off x="838080" y="9435960"/>
            <a:ext cx="2159280" cy="258840"/>
          </a:xfrm>
          <a:prstGeom prst="rect">
            <a:avLst/>
          </a:prstGeom>
          <a:ln w="0">
            <a:noFill/>
          </a:ln>
        </p:spPr>
      </p:pic>
      <p:sp>
        <p:nvSpPr>
          <p:cNvPr id="501" name="Shape 186"/>
          <p:cNvSpPr/>
          <p:nvPr/>
        </p:nvSpPr>
        <p:spPr>
          <a:xfrm>
            <a:off x="11907000" y="9360000"/>
            <a:ext cx="1068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89C9FF-E6DD-4D5F-9C3B-7E407EF5DB7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MEN DESIGN</cp:lastModifiedBy>
  <dcterms:modified xsi:type="dcterms:W3CDTF">2016-03-01T17:09:22Z</dcterms:modified>
  <cp:revision>1</cp:revision>
  <dc:subject/>
  <dc:title>Presentazione di PowerPoint</dc:title>
</cp:coreProperties>
</file>